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jpeg" ContentType="image/jpeg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734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90720" y="38653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734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7340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38653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73400" y="38653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734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18720" y="16761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6360" y="16761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90720" y="38653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18720" y="38653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6360" y="38653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734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734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734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73400" y="16761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734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7734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734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73400" y="16761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90720" y="38653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734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7340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73400" y="38653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734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7340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90720" y="38653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734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25560" y="1371600"/>
            <a:ext cx="7645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0360" y="6486480"/>
            <a:ext cx="90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oe Wu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393400" y="6486480"/>
            <a:ext cx="929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9F0EE-77D4-42A7-BB47-6623425D93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696080" y="304920"/>
          <a:ext cx="1067040" cy="1295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96080" y="304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734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Back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360" y="1676160"/>
            <a:ext cx="525276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ying RC sailplanes since 197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competition 1977 US Nationals, placed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pilot to win world champion for both FAI recognized soaring discipl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I world record holder for declared distance to a goal (141 miles, set in 198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“lifer” in the s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2249280" cy="25430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22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6324480" y="4038480"/>
          <a:ext cx="2448000" cy="230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24480" y="4038480"/>
                    <a:ext cx="244800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048120" y="3962520"/>
            <a:ext cx="2438280" cy="11430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734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 -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hird Vec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9"/>
              </a:spcAft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tal vector math = Direction to ther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5340000">
            <a:off x="6061320" y="3483720"/>
            <a:ext cx="379440" cy="120600"/>
          </a:xfrm>
          <a:prstGeom prst="rightArrow">
            <a:avLst>
              <a:gd name="adj1" fmla="val 50000"/>
              <a:gd name="adj2" fmla="val 157328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13200" y="3527280"/>
            <a:ext cx="1031760" cy="131760"/>
          </a:xfrm>
          <a:prstGeom prst="rightArrow">
            <a:avLst>
              <a:gd name="adj1" fmla="val 50000"/>
              <a:gd name="adj2" fmla="val 39156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rot="1080000">
            <a:off x="1371240" y="3505320"/>
            <a:ext cx="1095480" cy="228600"/>
          </a:xfrm>
          <a:prstGeom prst="rightArrow">
            <a:avLst>
              <a:gd name="adj1" fmla="val 50000"/>
              <a:gd name="adj2" fmla="val 239628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9160" y="3200400"/>
            <a:ext cx="690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3352680"/>
            <a:ext cx="790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92760" y="2971800"/>
            <a:ext cx="1481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 you fe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71800" y="3505320"/>
            <a:ext cx="304920" cy="759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34120" y="3429000"/>
            <a:ext cx="304560" cy="763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4120" y="3581280"/>
            <a:ext cx="304560" cy="763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243828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the math to derive the direction to the the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95280" y="5321160"/>
            <a:ext cx="6172200" cy="128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13716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the wind speed and direction that you f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tract the basic w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sult is the change caused by the the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5340000">
            <a:off x="4351680" y="4605840"/>
            <a:ext cx="379440" cy="120600"/>
          </a:xfrm>
          <a:prstGeom prst="rightArrow">
            <a:avLst>
              <a:gd name="adj1" fmla="val 50000"/>
              <a:gd name="adj2" fmla="val 157328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73280" y="4365720"/>
            <a:ext cx="1032120" cy="131760"/>
          </a:xfrm>
          <a:prstGeom prst="rightArrow">
            <a:avLst>
              <a:gd name="adj1" fmla="val 50000"/>
              <a:gd name="adj2" fmla="val 39170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1080000">
            <a:off x="3428640" y="4562640"/>
            <a:ext cx="1095480" cy="228600"/>
          </a:xfrm>
          <a:prstGeom prst="rightArrow">
            <a:avLst>
              <a:gd name="adj1" fmla="val 50000"/>
              <a:gd name="adj2" fmla="val 239628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369600" y="4038480"/>
            <a:ext cx="690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614840" y="4475160"/>
            <a:ext cx="790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330240" y="3657600"/>
            <a:ext cx="2334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this points to the therm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734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 -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ctical Guidel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ply defined upwind e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use downwind e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rgence z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led stre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88160" y="1835280"/>
            <a:ext cx="1511280" cy="1434960"/>
          </a:xfrm>
          <a:custGeom>
            <a:avLst/>
            <a:gdLst>
              <a:gd name="textAreaLeft" fmla="*/ 344880 w 1511280"/>
              <a:gd name="textAreaRight" fmla="*/ 1166400 w 1511280"/>
              <a:gd name="textAreaTop" fmla="*/ 327600 h 1434960"/>
              <a:gd name="textAreaBottom" fmla="*/ 1107360 h 1434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711840" y="1758960"/>
            <a:ext cx="2349720" cy="1663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829800" y="4717440"/>
            <a:ext cx="2750400" cy="1195560"/>
            <a:chOff x="829800" y="4717440"/>
            <a:chExt cx="2750400" cy="1195560"/>
          </a:xfrm>
        </p:grpSpPr>
        <p:sp>
          <p:nvSpPr>
            <p:cNvPr id="170" name=""/>
            <p:cNvSpPr/>
            <p:nvPr/>
          </p:nvSpPr>
          <p:spPr>
            <a:xfrm rot="840000">
              <a:off x="1820520" y="4807080"/>
              <a:ext cx="768240" cy="215640"/>
            </a:xfrm>
            <a:prstGeom prst="rightArrow">
              <a:avLst>
                <a:gd name="adj1" fmla="val 50000"/>
                <a:gd name="adj2" fmla="val 178146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840000">
              <a:off x="2796840" y="4807080"/>
              <a:ext cx="768240" cy="215640"/>
            </a:xfrm>
            <a:prstGeom prst="rightArrow">
              <a:avLst>
                <a:gd name="adj1" fmla="val 50000"/>
                <a:gd name="adj2" fmla="val 178146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840000">
              <a:off x="844200" y="4807080"/>
              <a:ext cx="768240" cy="215640"/>
            </a:xfrm>
            <a:prstGeom prst="rightArrow">
              <a:avLst>
                <a:gd name="adj1" fmla="val 50000"/>
                <a:gd name="adj2" fmla="val 178146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20400000">
              <a:off x="2732040" y="5571720"/>
              <a:ext cx="768240" cy="216000"/>
            </a:xfrm>
            <a:prstGeom prst="rightArrow">
              <a:avLst>
                <a:gd name="adj1" fmla="val 50000"/>
                <a:gd name="adj2" fmla="val 177849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20400000">
              <a:off x="1820880" y="5571720"/>
              <a:ext cx="768240" cy="216000"/>
            </a:xfrm>
            <a:prstGeom prst="rightArrow">
              <a:avLst>
                <a:gd name="adj1" fmla="val 50000"/>
                <a:gd name="adj2" fmla="val 177849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20400000">
              <a:off x="844560" y="5571720"/>
              <a:ext cx="768240" cy="216000"/>
            </a:xfrm>
            <a:prstGeom prst="rightArrow">
              <a:avLst>
                <a:gd name="adj1" fmla="val 50000"/>
                <a:gd name="adj2" fmla="val 177849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430280" y="5113440"/>
              <a:ext cx="247680" cy="291960"/>
            </a:xfrm>
            <a:custGeom>
              <a:avLst/>
              <a:gdLst>
                <a:gd name="textAreaLeft" fmla="*/ 56520 w 247680"/>
                <a:gd name="textAreaRight" fmla="*/ 191160 w 247680"/>
                <a:gd name="textAreaTop" fmla="*/ 66600 h 291960"/>
                <a:gd name="textAreaBottom" fmla="*/ 225360 h 29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76640" y="5113440"/>
              <a:ext cx="247320" cy="291960"/>
            </a:xfrm>
            <a:custGeom>
              <a:avLst/>
              <a:gdLst>
                <a:gd name="textAreaLeft" fmla="*/ 56520 w 247320"/>
                <a:gd name="textAreaRight" fmla="*/ 190800 w 247320"/>
                <a:gd name="textAreaTop" fmla="*/ 66600 h 291960"/>
                <a:gd name="textAreaBottom" fmla="*/ 225360 h 29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252960" y="5113440"/>
              <a:ext cx="247320" cy="291960"/>
            </a:xfrm>
            <a:custGeom>
              <a:avLst/>
              <a:gdLst>
                <a:gd name="textAreaLeft" fmla="*/ 56520 w 247320"/>
                <a:gd name="textAreaRight" fmla="*/ 190800 w 247320"/>
                <a:gd name="textAreaTop" fmla="*/ 66600 h 291960"/>
                <a:gd name="textAreaBottom" fmla="*/ 225360 h 29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4578480" y="4641480"/>
            <a:ext cx="4101840" cy="927360"/>
            <a:chOff x="4578480" y="4641480"/>
            <a:chExt cx="4101840" cy="927360"/>
          </a:xfrm>
        </p:grpSpPr>
        <p:sp>
          <p:nvSpPr>
            <p:cNvPr id="180" name=""/>
            <p:cNvSpPr/>
            <p:nvPr/>
          </p:nvSpPr>
          <p:spPr>
            <a:xfrm>
              <a:off x="4578480" y="5264280"/>
              <a:ext cx="1163520" cy="230040"/>
            </a:xfrm>
            <a:prstGeom prst="rightArrow">
              <a:avLst>
                <a:gd name="adj1" fmla="val 50000"/>
                <a:gd name="adj2" fmla="val 252918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07040" y="5264280"/>
              <a:ext cx="222480" cy="230040"/>
            </a:xfrm>
            <a:custGeom>
              <a:avLst/>
              <a:gdLst>
                <a:gd name="textAreaLeft" fmla="*/ 50760 w 222480"/>
                <a:gd name="textAreaRight" fmla="*/ 171720 w 222480"/>
                <a:gd name="textAreaTop" fmla="*/ 52560 h 230040"/>
                <a:gd name="textAreaBottom" fmla="*/ 177480 h 23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518160" y="5141880"/>
              <a:ext cx="222480" cy="231840"/>
            </a:xfrm>
            <a:custGeom>
              <a:avLst/>
              <a:gdLst>
                <a:gd name="textAreaLeft" fmla="*/ 50760 w 222480"/>
                <a:gd name="textAreaRight" fmla="*/ 171720 w 222480"/>
                <a:gd name="textAreaTop" fmla="*/ 52920 h 231840"/>
                <a:gd name="textAreaBottom" fmla="*/ 178920 h 231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047000" y="5019840"/>
              <a:ext cx="223920" cy="231480"/>
            </a:xfrm>
            <a:custGeom>
              <a:avLst/>
              <a:gdLst>
                <a:gd name="textAreaLeft" fmla="*/ 51120 w 223920"/>
                <a:gd name="textAreaRight" fmla="*/ 172800 w 223920"/>
                <a:gd name="textAreaTop" fmla="*/ 52920 h 231480"/>
                <a:gd name="textAreaBottom" fmla="*/ 178560 h 23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575480" y="4898880"/>
              <a:ext cx="223920" cy="230400"/>
            </a:xfrm>
            <a:custGeom>
              <a:avLst/>
              <a:gdLst>
                <a:gd name="textAreaLeft" fmla="*/ 51120 w 223920"/>
                <a:gd name="textAreaRight" fmla="*/ 172800 w 223920"/>
                <a:gd name="textAreaTop" fmla="*/ 52560 h 230400"/>
                <a:gd name="textAreaBottom" fmla="*/ 177840 h 23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164440" y="4776840"/>
              <a:ext cx="222480" cy="230040"/>
            </a:xfrm>
            <a:custGeom>
              <a:avLst/>
              <a:gdLst>
                <a:gd name="textAreaLeft" fmla="*/ 50760 w 222480"/>
                <a:gd name="textAreaRight" fmla="*/ 171720 w 222480"/>
                <a:gd name="textAreaTop" fmla="*/ 52560 h 230040"/>
                <a:gd name="textAreaBottom" fmla="*/ 177480 h 23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6048360" y="4641480"/>
              <a:ext cx="2455920" cy="62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6107040" y="4946760"/>
              <a:ext cx="257328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709160" y="4848120"/>
              <a:ext cx="690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i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734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 -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spective Challen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usion between range and altit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vation angle conf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225440" y="5181480"/>
            <a:ext cx="67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412880" y="4883040"/>
            <a:ext cx="16524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578480" y="4883040"/>
            <a:ext cx="13968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4572000" y="4718160"/>
            <a:ext cx="0" cy="16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4412880" y="472428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8480" y="4730760"/>
            <a:ext cx="13968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02160" y="4578480"/>
            <a:ext cx="139680" cy="63360"/>
          </a:xfrm>
          <a:prstGeom prst="ellipse">
            <a:avLst/>
          </a:prstGeom>
          <a:solidFill>
            <a:srgbClr val="dada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81280" y="3587760"/>
            <a:ext cx="0" cy="151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743200" y="3587760"/>
            <a:ext cx="0" cy="151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01960" y="3664080"/>
            <a:ext cx="520560" cy="152280"/>
            <a:chOff x="2901960" y="3664080"/>
            <a:chExt cx="520560" cy="152280"/>
          </a:xfrm>
        </p:grpSpPr>
        <p:sp>
          <p:nvSpPr>
            <p:cNvPr id="201" name=""/>
            <p:cNvSpPr/>
            <p:nvPr/>
          </p:nvSpPr>
          <p:spPr>
            <a:xfrm>
              <a:off x="2901960" y="3664080"/>
              <a:ext cx="25416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168720" y="375912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3022200" y="3714840"/>
              <a:ext cx="21276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3029040" y="3753000"/>
              <a:ext cx="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962440" y="3732120"/>
              <a:ext cx="126720" cy="2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3898800" y="3581280"/>
            <a:ext cx="520560" cy="152280"/>
            <a:chOff x="3898800" y="3581280"/>
            <a:chExt cx="520560" cy="152280"/>
          </a:xfrm>
        </p:grpSpPr>
        <p:sp>
          <p:nvSpPr>
            <p:cNvPr id="207" name=""/>
            <p:cNvSpPr/>
            <p:nvPr/>
          </p:nvSpPr>
          <p:spPr>
            <a:xfrm>
              <a:off x="3898800" y="3581280"/>
              <a:ext cx="25416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165560" y="367668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4019040" y="3632040"/>
              <a:ext cx="21276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4025880" y="3669840"/>
              <a:ext cx="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959280" y="3649680"/>
              <a:ext cx="126720" cy="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 flipH="1" flipV="1">
            <a:off x="3193920" y="3803760"/>
            <a:ext cx="1308240" cy="77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4191120" y="3733920"/>
            <a:ext cx="311040" cy="84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5340240" y="3505320"/>
            <a:ext cx="520920" cy="152280"/>
            <a:chOff x="5340240" y="3505320"/>
            <a:chExt cx="520920" cy="152280"/>
          </a:xfrm>
        </p:grpSpPr>
        <p:sp>
          <p:nvSpPr>
            <p:cNvPr id="215" name=""/>
            <p:cNvSpPr/>
            <p:nvPr/>
          </p:nvSpPr>
          <p:spPr>
            <a:xfrm>
              <a:off x="5340240" y="3505320"/>
              <a:ext cx="25416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607000" y="360072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5460480" y="3556080"/>
              <a:ext cx="21276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5467320" y="3594240"/>
              <a:ext cx="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00720" y="3573720"/>
              <a:ext cx="127080" cy="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6407280" y="3359160"/>
            <a:ext cx="520560" cy="152280"/>
            <a:chOff x="6407280" y="3359160"/>
            <a:chExt cx="520560" cy="152280"/>
          </a:xfrm>
        </p:grpSpPr>
        <p:sp>
          <p:nvSpPr>
            <p:cNvPr id="221" name=""/>
            <p:cNvSpPr/>
            <p:nvPr/>
          </p:nvSpPr>
          <p:spPr>
            <a:xfrm>
              <a:off x="6407280" y="3359160"/>
              <a:ext cx="25380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673680" y="345456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6527520" y="3409920"/>
              <a:ext cx="21276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6534000" y="3448080"/>
              <a:ext cx="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467400" y="3427560"/>
              <a:ext cx="127080" cy="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V="1">
            <a:off x="4654440" y="3657600"/>
            <a:ext cx="831960" cy="92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4654440" y="3498480"/>
            <a:ext cx="1968480" cy="107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943600" y="3511440"/>
            <a:ext cx="0" cy="166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3587760"/>
            <a:ext cx="0" cy="158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587760" y="3054240"/>
            <a:ext cx="1511280" cy="216000"/>
          </a:xfrm>
          <a:prstGeom prst="rightArrow">
            <a:avLst>
              <a:gd name="adj1" fmla="val 50000"/>
              <a:gd name="adj2" fmla="val 349865"/>
            </a:avLst>
          </a:prstGeom>
          <a:solidFill>
            <a:srgbClr val="dada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651400" y="2951280"/>
            <a:ext cx="859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734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 -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nts on Recent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rn tighter in the stronger l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ly reevaluate on each cir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wary of subconscious upwind dr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fects of horizontal wind sh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920880" y="3968640"/>
            <a:ext cx="3187440" cy="2806920"/>
            <a:chOff x="920880" y="3968640"/>
            <a:chExt cx="3187440" cy="2806920"/>
          </a:xfrm>
        </p:grpSpPr>
        <p:sp>
          <p:nvSpPr>
            <p:cNvPr id="235" name=""/>
            <p:cNvSpPr/>
            <p:nvPr/>
          </p:nvSpPr>
          <p:spPr>
            <a:xfrm>
              <a:off x="920880" y="3968640"/>
              <a:ext cx="2993760" cy="2524320"/>
            </a:xfrm>
            <a:custGeom>
              <a:avLst/>
              <a:gdLst>
                <a:gd name="textAreaLeft" fmla="*/ 683280 w 2993760"/>
                <a:gd name="textAreaRight" fmla="*/ 2310480 w 2993760"/>
                <a:gd name="textAreaTop" fmla="*/ 576000 h 2524320"/>
                <a:gd name="textAreaBottom" fmla="*/ 1948320 h 2524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dadad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793880" y="4626000"/>
              <a:ext cx="1344600" cy="1209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598760" y="4438800"/>
              <a:ext cx="2509560" cy="2336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793880" y="4532400"/>
              <a:ext cx="47160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1781280" y="4721400"/>
              <a:ext cx="303120" cy="26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697040" y="4908600"/>
              <a:ext cx="181080" cy="17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5797440" y="3733920"/>
            <a:ext cx="2882880" cy="3053880"/>
            <a:chOff x="5797440" y="3733920"/>
            <a:chExt cx="2882880" cy="3053880"/>
          </a:xfrm>
        </p:grpSpPr>
        <p:sp>
          <p:nvSpPr>
            <p:cNvPr id="242" name=""/>
            <p:cNvSpPr/>
            <p:nvPr/>
          </p:nvSpPr>
          <p:spPr>
            <a:xfrm flipV="1">
              <a:off x="5797440" y="4227120"/>
              <a:ext cx="1182960" cy="256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7561440" y="4295520"/>
              <a:ext cx="1118880" cy="249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113600" y="4435560"/>
              <a:ext cx="1258920" cy="1879560"/>
            </a:xfrm>
            <a:custGeom>
              <a:avLst/>
              <a:gdLst/>
              <a:ahLst/>
              <a:rect l="l" t="t" r="r" b="b"/>
              <a:pathLst>
                <a:path w="793" h="1184">
                  <a:moveTo>
                    <a:pt x="0" y="0"/>
                  </a:moveTo>
                  <a:lnTo>
                    <a:pt x="594" y="42"/>
                  </a:lnTo>
                  <a:lnTo>
                    <a:pt x="792" y="211"/>
                  </a:lnTo>
                  <a:lnTo>
                    <a:pt x="554" y="380"/>
                  </a:lnTo>
                  <a:lnTo>
                    <a:pt x="158" y="423"/>
                  </a:lnTo>
                  <a:lnTo>
                    <a:pt x="0" y="338"/>
                  </a:lnTo>
                  <a:lnTo>
                    <a:pt x="317" y="338"/>
                  </a:lnTo>
                  <a:lnTo>
                    <a:pt x="634" y="423"/>
                  </a:lnTo>
                  <a:lnTo>
                    <a:pt x="752" y="549"/>
                  </a:lnTo>
                  <a:lnTo>
                    <a:pt x="594" y="676"/>
                  </a:lnTo>
                  <a:lnTo>
                    <a:pt x="277" y="718"/>
                  </a:lnTo>
                  <a:lnTo>
                    <a:pt x="40" y="634"/>
                  </a:lnTo>
                  <a:lnTo>
                    <a:pt x="356" y="634"/>
                  </a:lnTo>
                  <a:lnTo>
                    <a:pt x="713" y="718"/>
                  </a:lnTo>
                  <a:lnTo>
                    <a:pt x="792" y="803"/>
                  </a:lnTo>
                  <a:lnTo>
                    <a:pt x="515" y="930"/>
                  </a:lnTo>
                  <a:lnTo>
                    <a:pt x="277" y="930"/>
                  </a:lnTo>
                  <a:lnTo>
                    <a:pt x="119" y="887"/>
                  </a:lnTo>
                  <a:lnTo>
                    <a:pt x="79" y="845"/>
                  </a:lnTo>
                  <a:lnTo>
                    <a:pt x="277" y="845"/>
                  </a:lnTo>
                  <a:lnTo>
                    <a:pt x="634" y="930"/>
                  </a:lnTo>
                  <a:lnTo>
                    <a:pt x="752" y="1014"/>
                  </a:lnTo>
                  <a:lnTo>
                    <a:pt x="594" y="1141"/>
                  </a:lnTo>
                  <a:lnTo>
                    <a:pt x="317" y="1183"/>
                  </a:lnTo>
                  <a:lnTo>
                    <a:pt x="119" y="109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308720" y="4040280"/>
              <a:ext cx="1055880" cy="187200"/>
            </a:xfrm>
            <a:prstGeom prst="rightArrow">
              <a:avLst>
                <a:gd name="adj1" fmla="val 50000"/>
                <a:gd name="adj2" fmla="val 282045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525440" y="3733920"/>
              <a:ext cx="690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i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4495680" y="4343400"/>
            <a:ext cx="1524240" cy="1373400"/>
            <a:chOff x="4495680" y="4343400"/>
            <a:chExt cx="1524240" cy="1373400"/>
          </a:xfrm>
        </p:grpSpPr>
        <p:sp>
          <p:nvSpPr>
            <p:cNvPr id="248" name=""/>
            <p:cNvSpPr/>
            <p:nvPr/>
          </p:nvSpPr>
          <p:spPr>
            <a:xfrm>
              <a:off x="4724280" y="434340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724280" y="5486400"/>
              <a:ext cx="129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724280" y="4390920"/>
              <a:ext cx="478080" cy="1095480"/>
            </a:xfrm>
            <a:custGeom>
              <a:avLst/>
              <a:gdLst/>
              <a:ahLst/>
              <a:rect l="l" t="t" r="r" b="b"/>
              <a:pathLst>
                <a:path w="301" h="690">
                  <a:moveTo>
                    <a:pt x="0" y="690"/>
                  </a:moveTo>
                  <a:cubicBezTo>
                    <a:pt x="36" y="678"/>
                    <a:pt x="66" y="671"/>
                    <a:pt x="96" y="642"/>
                  </a:cubicBezTo>
                  <a:cubicBezTo>
                    <a:pt x="126" y="613"/>
                    <a:pt x="157" y="564"/>
                    <a:pt x="181" y="516"/>
                  </a:cubicBezTo>
                  <a:cubicBezTo>
                    <a:pt x="205" y="468"/>
                    <a:pt x="222" y="421"/>
                    <a:pt x="240" y="354"/>
                  </a:cubicBezTo>
                  <a:cubicBezTo>
                    <a:pt x="258" y="287"/>
                    <a:pt x="278" y="173"/>
                    <a:pt x="288" y="114"/>
                  </a:cubicBezTo>
                  <a:cubicBezTo>
                    <a:pt x="298" y="55"/>
                    <a:pt x="299" y="27"/>
                    <a:pt x="301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786560" y="5470560"/>
              <a:ext cx="805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Wind Spee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16200000">
              <a:off x="4320360" y="4748760"/>
              <a:ext cx="59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Altitud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734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ning Conditions - Inver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2938320" y="1905120"/>
            <a:ext cx="2236680" cy="1793880"/>
            <a:chOff x="2938320" y="1905120"/>
            <a:chExt cx="2236680" cy="1793880"/>
          </a:xfrm>
        </p:grpSpPr>
        <p:grpSp>
          <p:nvGrpSpPr>
            <p:cNvPr id="255" name=""/>
            <p:cNvGrpSpPr/>
            <p:nvPr/>
          </p:nvGrpSpPr>
          <p:grpSpPr>
            <a:xfrm>
              <a:off x="3252960" y="2325600"/>
              <a:ext cx="1523880" cy="1373400"/>
              <a:chOff x="3252960" y="2325600"/>
              <a:chExt cx="1523880" cy="1373400"/>
            </a:xfrm>
          </p:grpSpPr>
          <p:sp>
            <p:nvSpPr>
              <p:cNvPr id="256" name=""/>
              <p:cNvSpPr/>
              <p:nvPr/>
            </p:nvSpPr>
            <p:spPr>
              <a:xfrm>
                <a:off x="3481560" y="2325600"/>
                <a:ext cx="0" cy="1143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481560" y="3468600"/>
                <a:ext cx="1295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481560" y="2373480"/>
                <a:ext cx="477720" cy="1095120"/>
              </a:xfrm>
              <a:custGeom>
                <a:avLst/>
                <a:gdLst/>
                <a:ahLst/>
                <a:rect l="l" t="t" r="r" b="b"/>
                <a:pathLst>
                  <a:path w="301" h="690">
                    <a:moveTo>
                      <a:pt x="0" y="690"/>
                    </a:moveTo>
                    <a:cubicBezTo>
                      <a:pt x="19" y="686"/>
                      <a:pt x="76" y="687"/>
                      <a:pt x="112" y="664"/>
                    </a:cubicBezTo>
                    <a:cubicBezTo>
                      <a:pt x="148" y="641"/>
                      <a:pt x="188" y="601"/>
                      <a:pt x="214" y="552"/>
                    </a:cubicBezTo>
                    <a:cubicBezTo>
                      <a:pt x="240" y="503"/>
                      <a:pt x="253" y="441"/>
                      <a:pt x="266" y="368"/>
                    </a:cubicBezTo>
                    <a:cubicBezTo>
                      <a:pt x="279" y="295"/>
                      <a:pt x="286" y="175"/>
                      <a:pt x="292" y="114"/>
                    </a:cubicBezTo>
                    <a:cubicBezTo>
                      <a:pt x="298" y="53"/>
                      <a:pt x="299" y="24"/>
                      <a:pt x="301" y="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543480" y="3452760"/>
                <a:ext cx="805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Wind Spee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16200000">
                <a:off x="3077640" y="2730960"/>
                <a:ext cx="596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Altitud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2938320" y="1905120"/>
              <a:ext cx="223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ypical wind profile with altitu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1331280" y="4038480"/>
            <a:ext cx="2167920" cy="1678320"/>
            <a:chOff x="1331280" y="4038480"/>
            <a:chExt cx="2167920" cy="1678320"/>
          </a:xfrm>
        </p:grpSpPr>
        <p:sp>
          <p:nvSpPr>
            <p:cNvPr id="263" name=""/>
            <p:cNvSpPr/>
            <p:nvPr/>
          </p:nvSpPr>
          <p:spPr>
            <a:xfrm>
              <a:off x="1782720" y="434340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782720" y="5486400"/>
              <a:ext cx="129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782720" y="5029200"/>
              <a:ext cx="152640" cy="457200"/>
            </a:xfrm>
            <a:custGeom>
              <a:avLst/>
              <a:gdLst/>
              <a:ahLst/>
              <a:rect l="l" t="t" r="r" b="b"/>
              <a:pathLst>
                <a:path w="301" h="690">
                  <a:moveTo>
                    <a:pt x="0" y="690"/>
                  </a:moveTo>
                  <a:cubicBezTo>
                    <a:pt x="36" y="678"/>
                    <a:pt x="66" y="671"/>
                    <a:pt x="96" y="642"/>
                  </a:cubicBezTo>
                  <a:cubicBezTo>
                    <a:pt x="126" y="613"/>
                    <a:pt x="157" y="564"/>
                    <a:pt x="181" y="516"/>
                  </a:cubicBezTo>
                  <a:cubicBezTo>
                    <a:pt x="205" y="468"/>
                    <a:pt x="222" y="421"/>
                    <a:pt x="240" y="354"/>
                  </a:cubicBezTo>
                  <a:cubicBezTo>
                    <a:pt x="258" y="287"/>
                    <a:pt x="278" y="173"/>
                    <a:pt x="288" y="114"/>
                  </a:cubicBezTo>
                  <a:cubicBezTo>
                    <a:pt x="298" y="55"/>
                    <a:pt x="299" y="27"/>
                    <a:pt x="301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845000" y="5470560"/>
              <a:ext cx="805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Wind Spee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16200000">
              <a:off x="1378800" y="4748760"/>
              <a:ext cx="59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Altitud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935360" y="4343400"/>
              <a:ext cx="382320" cy="685800"/>
            </a:xfrm>
            <a:custGeom>
              <a:avLst/>
              <a:gdLst/>
              <a:ahLst/>
              <a:rect l="l" t="t" r="r" b="b"/>
              <a:pathLst>
                <a:path w="241" h="432">
                  <a:moveTo>
                    <a:pt x="0" y="432"/>
                  </a:moveTo>
                  <a:cubicBezTo>
                    <a:pt x="18" y="428"/>
                    <a:pt x="77" y="424"/>
                    <a:pt x="106" y="408"/>
                  </a:cubicBezTo>
                  <a:cubicBezTo>
                    <a:pt x="135" y="392"/>
                    <a:pt x="154" y="366"/>
                    <a:pt x="172" y="336"/>
                  </a:cubicBezTo>
                  <a:cubicBezTo>
                    <a:pt x="190" y="306"/>
                    <a:pt x="201" y="273"/>
                    <a:pt x="212" y="230"/>
                  </a:cubicBezTo>
                  <a:cubicBezTo>
                    <a:pt x="223" y="187"/>
                    <a:pt x="231" y="114"/>
                    <a:pt x="236" y="76"/>
                  </a:cubicBezTo>
                  <a:cubicBezTo>
                    <a:pt x="241" y="38"/>
                    <a:pt x="239" y="16"/>
                    <a:pt x="240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782720" y="5029200"/>
              <a:ext cx="1295640" cy="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471040" y="4800600"/>
              <a:ext cx="8316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Temperatu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Invers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331280" y="4038480"/>
              <a:ext cx="216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ind profile low level invers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4548960" y="4038480"/>
            <a:ext cx="2605320" cy="1678320"/>
            <a:chOff x="4548960" y="4038480"/>
            <a:chExt cx="2605320" cy="1678320"/>
          </a:xfrm>
        </p:grpSpPr>
        <p:sp>
          <p:nvSpPr>
            <p:cNvPr id="273" name=""/>
            <p:cNvSpPr/>
            <p:nvPr/>
          </p:nvSpPr>
          <p:spPr>
            <a:xfrm>
              <a:off x="4997520" y="5029200"/>
              <a:ext cx="1295280" cy="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378400" y="4343400"/>
              <a:ext cx="273240" cy="1136520"/>
            </a:xfrm>
            <a:custGeom>
              <a:avLst/>
              <a:gdLst/>
              <a:ahLst/>
              <a:rect l="l" t="t" r="r" b="b"/>
              <a:pathLst>
                <a:path w="172" h="716">
                  <a:moveTo>
                    <a:pt x="68" y="716"/>
                  </a:moveTo>
                  <a:cubicBezTo>
                    <a:pt x="76" y="704"/>
                    <a:pt x="107" y="671"/>
                    <a:pt x="116" y="644"/>
                  </a:cubicBezTo>
                  <a:cubicBezTo>
                    <a:pt x="125" y="617"/>
                    <a:pt x="119" y="581"/>
                    <a:pt x="120" y="554"/>
                  </a:cubicBezTo>
                  <a:cubicBezTo>
                    <a:pt x="121" y="527"/>
                    <a:pt x="118" y="499"/>
                    <a:pt x="120" y="480"/>
                  </a:cubicBezTo>
                  <a:cubicBezTo>
                    <a:pt x="122" y="461"/>
                    <a:pt x="126" y="448"/>
                    <a:pt x="134" y="438"/>
                  </a:cubicBezTo>
                  <a:cubicBezTo>
                    <a:pt x="142" y="428"/>
                    <a:pt x="166" y="439"/>
                    <a:pt x="168" y="420"/>
                  </a:cubicBezTo>
                  <a:cubicBezTo>
                    <a:pt x="170" y="401"/>
                    <a:pt x="172" y="396"/>
                    <a:pt x="144" y="326"/>
                  </a:cubicBezTo>
                  <a:cubicBezTo>
                    <a:pt x="116" y="256"/>
                    <a:pt x="30" y="68"/>
                    <a:pt x="0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997520" y="434340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997520" y="548640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060160" y="5470560"/>
              <a:ext cx="831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Temperatu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6200000">
              <a:off x="4593600" y="4748760"/>
              <a:ext cx="59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Altitud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609520" y="4800600"/>
              <a:ext cx="8316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Temperatu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Invers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548960" y="4038480"/>
              <a:ext cx="2605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emperature profile low level invers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5410080" y="4324320"/>
            <a:ext cx="501840" cy="1170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734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mal 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ting 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ier gr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iation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rain influ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 l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4883040" y="4502160"/>
            <a:ext cx="2959200" cy="1289160"/>
            <a:chOff x="4883040" y="4502160"/>
            <a:chExt cx="2959200" cy="1289160"/>
          </a:xfrm>
        </p:grpSpPr>
        <p:sp>
          <p:nvSpPr>
            <p:cNvPr id="285" name=""/>
            <p:cNvSpPr/>
            <p:nvPr/>
          </p:nvSpPr>
          <p:spPr>
            <a:xfrm>
              <a:off x="4883040" y="5791320"/>
              <a:ext cx="295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369120" y="5057640"/>
              <a:ext cx="284040" cy="481320"/>
            </a:xfrm>
            <a:prstGeom prst="triangle">
              <a:avLst>
                <a:gd name="adj" fmla="val 49995"/>
              </a:avLst>
            </a:prstGeom>
            <a:solidFill>
              <a:srgbClr val="dadad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488280" y="5551560"/>
              <a:ext cx="45720" cy="23328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883040" y="5303880"/>
              <a:ext cx="641520" cy="111240"/>
            </a:xfrm>
            <a:prstGeom prst="rightArrow">
              <a:avLst>
                <a:gd name="adj1" fmla="val 50000"/>
                <a:gd name="adj2" fmla="val 288376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904640" y="5018040"/>
              <a:ext cx="690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i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191280" y="4502160"/>
              <a:ext cx="758880" cy="357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748480" y="4681440"/>
              <a:ext cx="438120" cy="679680"/>
            </a:xfrm>
            <a:custGeom>
              <a:avLst/>
              <a:gdLst/>
              <a:ahLst/>
              <a:rect l="l" t="t" r="r" b="b"/>
              <a:pathLst>
                <a:path w="276" h="428">
                  <a:moveTo>
                    <a:pt x="275" y="0"/>
                  </a:moveTo>
                  <a:lnTo>
                    <a:pt x="250" y="19"/>
                  </a:lnTo>
                  <a:lnTo>
                    <a:pt x="231" y="39"/>
                  </a:lnTo>
                  <a:lnTo>
                    <a:pt x="225" y="58"/>
                  </a:lnTo>
                  <a:lnTo>
                    <a:pt x="225" y="78"/>
                  </a:lnTo>
                  <a:lnTo>
                    <a:pt x="206" y="97"/>
                  </a:lnTo>
                  <a:lnTo>
                    <a:pt x="188" y="116"/>
                  </a:lnTo>
                  <a:lnTo>
                    <a:pt x="169" y="129"/>
                  </a:lnTo>
                  <a:lnTo>
                    <a:pt x="156" y="149"/>
                  </a:lnTo>
                  <a:lnTo>
                    <a:pt x="150" y="168"/>
                  </a:lnTo>
                  <a:lnTo>
                    <a:pt x="138" y="188"/>
                  </a:lnTo>
                  <a:lnTo>
                    <a:pt x="131" y="207"/>
                  </a:lnTo>
                  <a:lnTo>
                    <a:pt x="119" y="226"/>
                  </a:lnTo>
                  <a:lnTo>
                    <a:pt x="113" y="246"/>
                  </a:lnTo>
                  <a:lnTo>
                    <a:pt x="113" y="265"/>
                  </a:lnTo>
                  <a:lnTo>
                    <a:pt x="94" y="272"/>
                  </a:lnTo>
                  <a:lnTo>
                    <a:pt x="94" y="291"/>
                  </a:lnTo>
                  <a:lnTo>
                    <a:pt x="75" y="304"/>
                  </a:lnTo>
                  <a:lnTo>
                    <a:pt x="63" y="323"/>
                  </a:lnTo>
                  <a:lnTo>
                    <a:pt x="44" y="343"/>
                  </a:lnTo>
                  <a:lnTo>
                    <a:pt x="38" y="362"/>
                  </a:lnTo>
                  <a:lnTo>
                    <a:pt x="25" y="382"/>
                  </a:lnTo>
                  <a:lnTo>
                    <a:pt x="19" y="401"/>
                  </a:lnTo>
                  <a:lnTo>
                    <a:pt x="19" y="421"/>
                  </a:lnTo>
                  <a:lnTo>
                    <a:pt x="0" y="4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194520" y="4803840"/>
              <a:ext cx="704880" cy="711000"/>
            </a:xfrm>
            <a:custGeom>
              <a:avLst/>
              <a:gdLst/>
              <a:ahLst/>
              <a:rect l="l" t="t" r="r" b="b"/>
              <a:pathLst>
                <a:path w="444" h="448">
                  <a:moveTo>
                    <a:pt x="443" y="0"/>
                  </a:moveTo>
                  <a:lnTo>
                    <a:pt x="437" y="19"/>
                  </a:lnTo>
                  <a:lnTo>
                    <a:pt x="418" y="39"/>
                  </a:lnTo>
                  <a:lnTo>
                    <a:pt x="399" y="52"/>
                  </a:lnTo>
                  <a:lnTo>
                    <a:pt x="381" y="58"/>
                  </a:lnTo>
                  <a:lnTo>
                    <a:pt x="362" y="58"/>
                  </a:lnTo>
                  <a:lnTo>
                    <a:pt x="343" y="71"/>
                  </a:lnTo>
                  <a:lnTo>
                    <a:pt x="324" y="78"/>
                  </a:lnTo>
                  <a:lnTo>
                    <a:pt x="306" y="91"/>
                  </a:lnTo>
                  <a:lnTo>
                    <a:pt x="287" y="97"/>
                  </a:lnTo>
                  <a:lnTo>
                    <a:pt x="268" y="110"/>
                  </a:lnTo>
                  <a:lnTo>
                    <a:pt x="262" y="130"/>
                  </a:lnTo>
                  <a:lnTo>
                    <a:pt x="243" y="136"/>
                  </a:lnTo>
                  <a:lnTo>
                    <a:pt x="225" y="155"/>
                  </a:lnTo>
                  <a:lnTo>
                    <a:pt x="206" y="168"/>
                  </a:lnTo>
                  <a:lnTo>
                    <a:pt x="187" y="175"/>
                  </a:lnTo>
                  <a:lnTo>
                    <a:pt x="168" y="188"/>
                  </a:lnTo>
                  <a:lnTo>
                    <a:pt x="156" y="207"/>
                  </a:lnTo>
                  <a:lnTo>
                    <a:pt x="137" y="214"/>
                  </a:lnTo>
                  <a:lnTo>
                    <a:pt x="119" y="227"/>
                  </a:lnTo>
                  <a:lnTo>
                    <a:pt x="100" y="233"/>
                  </a:lnTo>
                  <a:lnTo>
                    <a:pt x="94" y="253"/>
                  </a:lnTo>
                  <a:lnTo>
                    <a:pt x="81" y="272"/>
                  </a:lnTo>
                  <a:lnTo>
                    <a:pt x="81" y="292"/>
                  </a:lnTo>
                  <a:lnTo>
                    <a:pt x="75" y="311"/>
                  </a:lnTo>
                  <a:lnTo>
                    <a:pt x="75" y="330"/>
                  </a:lnTo>
                  <a:lnTo>
                    <a:pt x="62" y="350"/>
                  </a:lnTo>
                  <a:lnTo>
                    <a:pt x="56" y="369"/>
                  </a:lnTo>
                  <a:lnTo>
                    <a:pt x="44" y="389"/>
                  </a:lnTo>
                  <a:lnTo>
                    <a:pt x="37" y="408"/>
                  </a:lnTo>
                  <a:lnTo>
                    <a:pt x="6" y="428"/>
                  </a:lnTo>
                  <a:lnTo>
                    <a:pt x="0" y="44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ditions necess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lik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ear 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ydraulic w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soa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title"/>
          </p:nvPr>
        </p:nvSpPr>
        <p:spPr>
          <a:xfrm>
            <a:off x="380520" y="304560"/>
            <a:ext cx="7734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-Thermal L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5035680" y="1752480"/>
            <a:ext cx="4033800" cy="1602000"/>
            <a:chOff x="5035680" y="1752480"/>
            <a:chExt cx="4033800" cy="1602000"/>
          </a:xfrm>
        </p:grpSpPr>
        <p:sp>
          <p:nvSpPr>
            <p:cNvPr id="296" name=""/>
            <p:cNvSpPr/>
            <p:nvPr/>
          </p:nvSpPr>
          <p:spPr>
            <a:xfrm>
              <a:off x="5035680" y="3352680"/>
              <a:ext cx="4025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334120" y="2590920"/>
              <a:ext cx="1068120" cy="763560"/>
            </a:xfrm>
            <a:custGeom>
              <a:avLst/>
              <a:gdLst/>
              <a:ahLst/>
              <a:rect l="l" t="t" r="r" b="b"/>
              <a:pathLst>
                <a:path w="673" h="481">
                  <a:moveTo>
                    <a:pt x="0" y="480"/>
                  </a:moveTo>
                  <a:lnTo>
                    <a:pt x="144" y="144"/>
                  </a:lnTo>
                  <a:lnTo>
                    <a:pt x="336" y="0"/>
                  </a:lnTo>
                  <a:lnTo>
                    <a:pt x="528" y="144"/>
                  </a:lnTo>
                  <a:lnTo>
                    <a:pt x="672" y="48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181480" y="2286000"/>
              <a:ext cx="3888000" cy="306360"/>
            </a:xfrm>
            <a:custGeom>
              <a:avLst/>
              <a:gdLst/>
              <a:ahLst/>
              <a:rect l="l" t="t" r="r" b="b"/>
              <a:pathLst>
                <a:path w="2449" h="193">
                  <a:moveTo>
                    <a:pt x="0" y="192"/>
                  </a:moveTo>
                  <a:lnTo>
                    <a:pt x="432" y="0"/>
                  </a:lnTo>
                  <a:lnTo>
                    <a:pt x="864" y="144"/>
                  </a:lnTo>
                  <a:lnTo>
                    <a:pt x="1248" y="192"/>
                  </a:lnTo>
                  <a:lnTo>
                    <a:pt x="1680" y="48"/>
                  </a:lnTo>
                  <a:lnTo>
                    <a:pt x="2112" y="192"/>
                  </a:lnTo>
                  <a:lnTo>
                    <a:pt x="2448" y="9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181480" y="1981080"/>
              <a:ext cx="3888000" cy="230400"/>
            </a:xfrm>
            <a:custGeom>
              <a:avLst/>
              <a:gdLst/>
              <a:ahLst/>
              <a:rect l="l" t="t" r="r" b="b"/>
              <a:pathLst>
                <a:path w="2449" h="145">
                  <a:moveTo>
                    <a:pt x="0" y="144"/>
                  </a:moveTo>
                  <a:lnTo>
                    <a:pt x="432" y="0"/>
                  </a:lnTo>
                  <a:lnTo>
                    <a:pt x="864" y="96"/>
                  </a:lnTo>
                  <a:lnTo>
                    <a:pt x="1248" y="144"/>
                  </a:lnTo>
                  <a:lnTo>
                    <a:pt x="1680" y="48"/>
                  </a:lnTo>
                  <a:lnTo>
                    <a:pt x="2112" y="144"/>
                  </a:lnTo>
                  <a:lnTo>
                    <a:pt x="2448" y="9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181480" y="1752480"/>
              <a:ext cx="3888000" cy="154080"/>
            </a:xfrm>
            <a:custGeom>
              <a:avLst/>
              <a:gdLst/>
              <a:ahLst/>
              <a:rect l="l" t="t" r="r" b="b"/>
              <a:pathLst>
                <a:path w="2449" h="97">
                  <a:moveTo>
                    <a:pt x="0" y="96"/>
                  </a:moveTo>
                  <a:lnTo>
                    <a:pt x="432" y="0"/>
                  </a:lnTo>
                  <a:lnTo>
                    <a:pt x="864" y="48"/>
                  </a:lnTo>
                  <a:lnTo>
                    <a:pt x="1248" y="48"/>
                  </a:lnTo>
                  <a:lnTo>
                    <a:pt x="1680" y="0"/>
                  </a:lnTo>
                  <a:lnTo>
                    <a:pt x="2112" y="48"/>
                  </a:lnTo>
                  <a:lnTo>
                    <a:pt x="2448" y="4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483240" y="2749680"/>
              <a:ext cx="444600" cy="444240"/>
            </a:xfrm>
            <a:custGeom>
              <a:avLst/>
              <a:gdLst>
                <a:gd name="textAreaLeft" fmla="*/ 101520 w 444600"/>
                <a:gd name="textAreaRight" fmla="*/ 343080 w 444600"/>
                <a:gd name="textAreaTop" fmla="*/ 101160 h 444240"/>
                <a:gd name="textAreaBottom" fmla="*/ 343080 h 44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ing Your Aircraft Set-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e Wu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914400" y="3189240"/>
          <a:ext cx="2589120" cy="331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189240"/>
                    <a:ext cx="2589120" cy="331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734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pics of Discu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echanical Asp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ight M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734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ilosop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zing the aircraft efficiency and perform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ing dr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ting the most cap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iminating the “cross-talk” in inpu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s coordinated flight without difficul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e of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se of flying = more performance realiz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ding and Recognizing Therm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e Wu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734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echanical Asp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o instal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all servos to get straight pushr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o linkage and thr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iff and tight linkage without dr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ring sugg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4834440" y="4307040"/>
            <a:ext cx="3652200" cy="2070360"/>
            <a:chOff x="4834440" y="4307040"/>
            <a:chExt cx="3652200" cy="2070360"/>
          </a:xfrm>
        </p:grpSpPr>
        <p:sp>
          <p:nvSpPr>
            <p:cNvPr id="313" name=""/>
            <p:cNvSpPr/>
            <p:nvPr/>
          </p:nvSpPr>
          <p:spPr>
            <a:xfrm>
              <a:off x="4865760" y="4307040"/>
              <a:ext cx="906480" cy="303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025960" y="4386240"/>
              <a:ext cx="146160" cy="146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780000">
              <a:off x="4984920" y="4385880"/>
              <a:ext cx="187200" cy="387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5520000">
              <a:off x="7859520" y="3917520"/>
              <a:ext cx="189000" cy="1059120"/>
            </a:xfrm>
            <a:prstGeom prst="triangle">
              <a:avLst>
                <a:gd name="adj" fmla="val 49995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rot="5220000">
              <a:off x="7552440" y="4408920"/>
              <a:ext cx="401760" cy="625680"/>
            </a:xfrm>
            <a:prstGeom prst="rtTriangl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059440" y="4735440"/>
              <a:ext cx="243684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302600" y="4344840"/>
              <a:ext cx="187200" cy="187560"/>
            </a:xfrm>
            <a:prstGeom prst="ellipse">
              <a:avLst/>
            </a:prstGeom>
            <a:solidFill>
              <a:srgbClr val="dadad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4939920" y="4457880"/>
              <a:ext cx="158760" cy="6746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834440" y="5191200"/>
              <a:ext cx="322344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ote servo arm angle forwar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nd control arm angle aft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roduces progressive mechani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ifferential - good for ailer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367760" y="4452840"/>
              <a:ext cx="228600" cy="7621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734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xing - Roll Ax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al - Coordinated roll w/o separate rud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leron to Flap mix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s roll efficiency (I use Flap = 40% Ai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ential vs Rudder coup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st help in setup - slope on a light 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ow speed vs high sp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endence on aircraft configu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 1.5:1 to 2.5:1 different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734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xing - Pitch Ax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mix is Elevator to Ca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mber should be even across the 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possible, use an inverse exponential m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camber mix initi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good start is full up mixes to 10°  ca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ly dependent on airfoil u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e Tai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own throw than up for a symmetric pitch respo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734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xing - Yaw Ax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e Tai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dder mix typically needs “reverse differential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re “vertical”, the more “reverse differentia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ss efficient than a cross-t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ly covered in “roll axi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rot="18840000">
            <a:off x="6526800" y="4697640"/>
            <a:ext cx="96840" cy="1997280"/>
          </a:xfrm>
          <a:prstGeom prst="triangle">
            <a:avLst>
              <a:gd name="adj" fmla="val 49995"/>
            </a:avLst>
          </a:prstGeom>
          <a:solidFill>
            <a:srgbClr val="dada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rot="2640000">
            <a:off x="8034120" y="4686480"/>
            <a:ext cx="95040" cy="1996920"/>
          </a:xfrm>
          <a:prstGeom prst="triangle">
            <a:avLst>
              <a:gd name="adj" fmla="val 49995"/>
            </a:avLst>
          </a:prstGeom>
          <a:solidFill>
            <a:srgbClr val="dada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rot="2760000">
            <a:off x="5769360" y="5763240"/>
            <a:ext cx="1617840" cy="142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rot="8160000">
            <a:off x="7168680" y="5617800"/>
            <a:ext cx="1617840" cy="103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686640" y="4898880"/>
            <a:ext cx="125136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e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fferent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734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ight Mo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use four flight m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un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u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mode has a different, ail&gt;rud mix, differential, camber and elevator preset, as well as control throw 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734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ight Modes - Laun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mber pre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° to 30° camber preset (full sp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endent on airfoil u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vator pre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ly dependent on towhook 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utral to slight amount of up is b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leron to Rudder mix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is bet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 to 100% aileron different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734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ight Modes - Ther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mber presets or adju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use flight mode presets, with adjustable slide for fine t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mber to (Ail to Rud) gain adju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camber should give more Ail to Rud 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vator to Camber m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ep this mix (many people do no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leron to Rudder m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 to a higher rate for slow spe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ced Aileron and Elevator thr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734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ight Modes - Spe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97544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lex Camber settings (fallaci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vator to Camber m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 bit more (higher loads cause “blow-back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if using reflex camber pre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leron to Rudder m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th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ential cha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sibly a reduction is warran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734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ight Modes - L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ap to Elevator m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ly non-linear after 45° fl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ap to Aileron (crow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use about 10° up ailer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leron to Rudder m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some to su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ential adjust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ly a bit more is nee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050840" y="5908680"/>
            <a:ext cx="6035760" cy="8254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 of crow/ail&gt;rud/diff is slightly proverse yaw response with a roll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6672240" y="3703680"/>
            <a:ext cx="1839600" cy="1400040"/>
            <a:chOff x="6672240" y="3703680"/>
            <a:chExt cx="1839600" cy="1400040"/>
          </a:xfrm>
        </p:grpSpPr>
        <p:sp>
          <p:nvSpPr>
            <p:cNvPr id="346" name=""/>
            <p:cNvSpPr/>
            <p:nvPr/>
          </p:nvSpPr>
          <p:spPr>
            <a:xfrm>
              <a:off x="6672240" y="3703680"/>
              <a:ext cx="0" cy="140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680160" y="5103720"/>
              <a:ext cx="183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6680160" y="4268520"/>
              <a:ext cx="687240" cy="83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367400" y="3790800"/>
              <a:ext cx="1082520" cy="480960"/>
            </a:xfrm>
            <a:custGeom>
              <a:avLst/>
              <a:gdLst/>
              <a:ahLst/>
              <a:rect l="l" t="t" r="r" b="b"/>
              <a:pathLst>
                <a:path w="682" h="303">
                  <a:moveTo>
                    <a:pt x="0" y="302"/>
                  </a:moveTo>
                  <a:lnTo>
                    <a:pt x="118" y="185"/>
                  </a:lnTo>
                  <a:lnTo>
                    <a:pt x="275" y="95"/>
                  </a:lnTo>
                  <a:lnTo>
                    <a:pt x="397" y="50"/>
                  </a:lnTo>
                  <a:lnTo>
                    <a:pt x="502" y="27"/>
                  </a:lnTo>
                  <a:lnTo>
                    <a:pt x="568" y="14"/>
                  </a:lnTo>
                  <a:lnTo>
                    <a:pt x="602" y="5"/>
                  </a:lnTo>
                  <a:lnTo>
                    <a:pt x="642" y="5"/>
                  </a:lnTo>
                  <a:lnTo>
                    <a:pt x="68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0" name=""/>
          <p:cNvSpPr/>
          <p:nvPr/>
        </p:nvSpPr>
        <p:spPr>
          <a:xfrm>
            <a:off x="6933240" y="5095800"/>
            <a:ext cx="1319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246000" y="3048120"/>
            <a:ext cx="2580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tch up is caused b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wnwash on the elev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546960" y="5113440"/>
            <a:ext cx="387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294760" y="5103720"/>
            <a:ext cx="501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0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unch Optim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e Wu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734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pics of Discu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mal The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mal 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-Thermal L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734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pics of Discu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unch Modelling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rcraft Set-Up for Laun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hr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Zoo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ch/Line Optim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 Lo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ering on T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wind Launc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rcle (Weave) Tow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734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unch Modelling Program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line Assum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aight tows only (no weav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wer on 10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ault d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igh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6 o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ect Rati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ng Are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.0 f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owing Line T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 l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unch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nd Veloci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 ft/s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oom Po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5 deg up from turnar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nch Drum Di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5 inc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568840" y="2749680"/>
            <a:ext cx="3548160" cy="2914560"/>
            <a:chOff x="5568840" y="2749680"/>
            <a:chExt cx="3548160" cy="2914560"/>
          </a:xfrm>
        </p:grpSpPr>
        <p:grpSp>
          <p:nvGrpSpPr>
            <p:cNvPr id="361" name=""/>
            <p:cNvGrpSpPr/>
            <p:nvPr/>
          </p:nvGrpSpPr>
          <p:grpSpPr>
            <a:xfrm>
              <a:off x="5951520" y="2944440"/>
              <a:ext cx="2997360" cy="2359440"/>
              <a:chOff x="5951520" y="2944440"/>
              <a:chExt cx="2997360" cy="2359440"/>
            </a:xfrm>
          </p:grpSpPr>
          <p:sp>
            <p:nvSpPr>
              <p:cNvPr id="362" name=""/>
              <p:cNvSpPr/>
              <p:nvPr/>
            </p:nvSpPr>
            <p:spPr>
              <a:xfrm>
                <a:off x="5951520" y="2944800"/>
                <a:ext cx="29973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8948880" y="2944800"/>
                <a:ext cx="0" cy="235908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H="1">
                <a:off x="5951520" y="5303880"/>
                <a:ext cx="29973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V="1">
                <a:off x="5951520" y="2944440"/>
                <a:ext cx="0" cy="235908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951520" y="2944800"/>
              <a:ext cx="0" cy="235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923080" y="5303880"/>
              <a:ext cx="55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923080" y="4968720"/>
              <a:ext cx="55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923080" y="4630680"/>
              <a:ext cx="55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923080" y="4294080"/>
              <a:ext cx="55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923080" y="3956040"/>
              <a:ext cx="55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923080" y="3619440"/>
              <a:ext cx="55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923080" y="3282840"/>
              <a:ext cx="55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923080" y="2944800"/>
              <a:ext cx="55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951520" y="5303880"/>
              <a:ext cx="299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5951520" y="5281200"/>
              <a:ext cx="0" cy="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6556320" y="5281200"/>
              <a:ext cx="0" cy="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7149960" y="5281200"/>
              <a:ext cx="0" cy="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7750080" y="5281200"/>
              <a:ext cx="0" cy="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8342280" y="5281200"/>
              <a:ext cx="0" cy="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8948880" y="5281200"/>
              <a:ext cx="0" cy="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2" name=""/>
            <p:cNvGrpSpPr/>
            <p:nvPr/>
          </p:nvGrpSpPr>
          <p:grpSpPr>
            <a:xfrm>
              <a:off x="5951520" y="2997360"/>
              <a:ext cx="2463840" cy="2306520"/>
              <a:chOff x="5951520" y="2997360"/>
              <a:chExt cx="2463840" cy="2306520"/>
            </a:xfrm>
          </p:grpSpPr>
          <p:sp>
            <p:nvSpPr>
              <p:cNvPr id="383" name=""/>
              <p:cNvSpPr/>
              <p:nvPr/>
            </p:nvSpPr>
            <p:spPr>
              <a:xfrm flipV="1">
                <a:off x="5951520" y="5267160"/>
                <a:ext cx="15840" cy="367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967360" y="5218200"/>
                <a:ext cx="28800" cy="50760"/>
              </a:xfrm>
              <a:custGeom>
                <a:avLst/>
                <a:gdLst/>
                <a:ahLst/>
                <a:rect l="l" t="t" r="r" b="b"/>
                <a:pathLst>
                  <a:path w="18" h="32">
                    <a:moveTo>
                      <a:pt x="0" y="31"/>
                    </a:moveTo>
                    <a:lnTo>
                      <a:pt x="6" y="15"/>
                    </a:lnTo>
                    <a:lnTo>
                      <a:pt x="17" y="0"/>
                    </a:lnTo>
                  </a:path>
                </a:pathLst>
              </a:custGeom>
              <a:noFill/>
              <a:ln cap="rnd"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V="1">
                <a:off x="5994360" y="5175000"/>
                <a:ext cx="17640" cy="4284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V="1">
                <a:off x="6012000" y="5135040"/>
                <a:ext cx="20520" cy="399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V="1">
                <a:off x="6032520" y="5095800"/>
                <a:ext cx="7920" cy="3960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040440" y="5043600"/>
                <a:ext cx="11160" cy="540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0" y="33"/>
                    </a:moveTo>
                    <a:lnTo>
                      <a:pt x="0" y="18"/>
                    </a:lnTo>
                    <a:lnTo>
                      <a:pt x="6" y="0"/>
                    </a:lnTo>
                  </a:path>
                </a:pathLst>
              </a:custGeom>
              <a:noFill/>
              <a:ln cap="rnd"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V="1">
                <a:off x="6049800" y="5011200"/>
                <a:ext cx="11160" cy="3204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V="1">
                <a:off x="6060960" y="4968360"/>
                <a:ext cx="0" cy="4284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V="1">
                <a:off x="6060960" y="4927680"/>
                <a:ext cx="5040" cy="4104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V="1">
                <a:off x="6066000" y="4889520"/>
                <a:ext cx="10800" cy="381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V="1">
                <a:off x="6076800" y="4849920"/>
                <a:ext cx="19080" cy="3960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095880" y="4807080"/>
                <a:ext cx="28800" cy="44280"/>
              </a:xfrm>
              <a:custGeom>
                <a:avLst/>
                <a:gdLst/>
                <a:ahLst/>
                <a:rect l="l" t="t" r="r" b="b"/>
                <a:pathLst>
                  <a:path w="18" h="28">
                    <a:moveTo>
                      <a:pt x="0" y="27"/>
                    </a:moveTo>
                    <a:lnTo>
                      <a:pt x="6" y="10"/>
                    </a:lnTo>
                    <a:lnTo>
                      <a:pt x="17" y="0"/>
                    </a:lnTo>
                  </a:path>
                </a:pathLst>
              </a:custGeom>
              <a:noFill/>
              <a:ln cap="rnd"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V="1">
                <a:off x="6122880" y="4771800"/>
                <a:ext cx="17640" cy="3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V="1">
                <a:off x="6140520" y="4735440"/>
                <a:ext cx="17280" cy="367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V="1">
                <a:off x="6157800" y="4694400"/>
                <a:ext cx="17640" cy="4104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V="1">
                <a:off x="6175440" y="4660560"/>
                <a:ext cx="15840" cy="3348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V="1">
                <a:off x="6191280" y="4624200"/>
                <a:ext cx="20520" cy="363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V="1">
                <a:off x="6211800" y="4589280"/>
                <a:ext cx="7920" cy="3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V="1">
                <a:off x="6219720" y="4549320"/>
                <a:ext cx="20880" cy="399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V="1">
                <a:off x="6240600" y="4520880"/>
                <a:ext cx="17280" cy="2844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257880" y="4484520"/>
                <a:ext cx="28800" cy="3816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0" y="23"/>
                    </a:moveTo>
                    <a:lnTo>
                      <a:pt x="6" y="10"/>
                    </a:lnTo>
                    <a:lnTo>
                      <a:pt x="17" y="0"/>
                    </a:lnTo>
                  </a:path>
                </a:pathLst>
              </a:custGeom>
              <a:noFill/>
              <a:ln cap="rnd"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V="1">
                <a:off x="6284880" y="4444920"/>
                <a:ext cx="17640" cy="3960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302520" y="4414680"/>
                <a:ext cx="28440" cy="32040"/>
              </a:xfrm>
              <a:custGeom>
                <a:avLst/>
                <a:gdLst/>
                <a:ahLst/>
                <a:rect l="l" t="t" r="r" b="b"/>
                <a:pathLst>
                  <a:path w="18" h="20">
                    <a:moveTo>
                      <a:pt x="0" y="19"/>
                    </a:moveTo>
                    <a:lnTo>
                      <a:pt x="6" y="9"/>
                    </a:lnTo>
                    <a:lnTo>
                      <a:pt x="17" y="0"/>
                    </a:lnTo>
                  </a:path>
                </a:pathLst>
              </a:custGeom>
              <a:noFill/>
              <a:ln cap="rnd"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V="1">
                <a:off x="6329520" y="4389480"/>
                <a:ext cx="17280" cy="2520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346800" y="435924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18" h="20">
                    <a:moveTo>
                      <a:pt x="0" y="19"/>
                    </a:moveTo>
                    <a:lnTo>
                      <a:pt x="6" y="10"/>
                    </a:lnTo>
                    <a:lnTo>
                      <a:pt x="17" y="0"/>
                    </a:lnTo>
                  </a:path>
                </a:pathLst>
              </a:custGeom>
              <a:noFill/>
              <a:ln cap="rnd"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V="1">
                <a:off x="6373800" y="4323960"/>
                <a:ext cx="19080" cy="3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392880" y="429408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18" h="20">
                    <a:moveTo>
                      <a:pt x="0" y="19"/>
                    </a:moveTo>
                    <a:lnTo>
                      <a:pt x="6" y="10"/>
                    </a:lnTo>
                    <a:lnTo>
                      <a:pt x="17" y="0"/>
                    </a:lnTo>
                  </a:path>
                </a:pathLst>
              </a:custGeom>
              <a:noFill/>
              <a:ln cap="rnd"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V="1">
                <a:off x="6419880" y="4260960"/>
                <a:ext cx="14400" cy="331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V="1">
                <a:off x="6437160" y="4240080"/>
                <a:ext cx="30240" cy="2088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462720" y="4205160"/>
                <a:ext cx="27000" cy="36720"/>
              </a:xfrm>
              <a:custGeom>
                <a:avLst/>
                <a:gdLst/>
                <a:ahLst/>
                <a:rect l="l" t="t" r="r" b="b"/>
                <a:pathLst>
                  <a:path w="17" h="23">
                    <a:moveTo>
                      <a:pt x="0" y="22"/>
                    </a:moveTo>
                    <a:lnTo>
                      <a:pt x="12" y="10"/>
                    </a:lnTo>
                    <a:lnTo>
                      <a:pt x="16" y="0"/>
                    </a:lnTo>
                  </a:path>
                </a:pathLst>
              </a:custGeom>
              <a:noFill/>
              <a:ln cap="rnd"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V="1">
                <a:off x="6488280" y="4184280"/>
                <a:ext cx="20520" cy="205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508800" y="4152960"/>
                <a:ext cx="30240" cy="33120"/>
              </a:xfrm>
              <a:custGeom>
                <a:avLst/>
                <a:gdLst/>
                <a:ahLst/>
                <a:rect l="l" t="t" r="r" b="b"/>
                <a:pathLst>
                  <a:path w="19" h="21">
                    <a:moveTo>
                      <a:pt x="0" y="20"/>
                    </a:moveTo>
                    <a:lnTo>
                      <a:pt x="5" y="8"/>
                    </a:lnTo>
                    <a:lnTo>
                      <a:pt x="18" y="0"/>
                    </a:lnTo>
                  </a:path>
                </a:pathLst>
              </a:custGeom>
              <a:noFill/>
              <a:ln cap="rnd"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V="1">
                <a:off x="6534000" y="4127040"/>
                <a:ext cx="27000" cy="255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V="1">
                <a:off x="6561000" y="4103280"/>
                <a:ext cx="25560" cy="1764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V="1">
                <a:off x="6586560" y="4078440"/>
                <a:ext cx="30240" cy="2520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V="1">
                <a:off x="6616800" y="4053960"/>
                <a:ext cx="27000" cy="241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V="1">
                <a:off x="6643800" y="4032000"/>
                <a:ext cx="27000" cy="219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V="1">
                <a:off x="6670800" y="4005000"/>
                <a:ext cx="25200" cy="2700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V="1">
                <a:off x="6696000" y="3979440"/>
                <a:ext cx="28800" cy="255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V="1">
                <a:off x="6724800" y="3956040"/>
                <a:ext cx="27000" cy="237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V="1">
                <a:off x="6751800" y="3943080"/>
                <a:ext cx="27000" cy="1260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778800" y="3917880"/>
                <a:ext cx="36360" cy="27000"/>
              </a:xfrm>
              <a:custGeom>
                <a:avLst/>
                <a:gdLst/>
                <a:ahLst/>
                <a:rect l="l" t="t" r="r" b="b"/>
                <a:pathLst>
                  <a:path w="23" h="17">
                    <a:moveTo>
                      <a:pt x="0" y="16"/>
                    </a:moveTo>
                    <a:lnTo>
                      <a:pt x="11" y="4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V="1">
                <a:off x="6813720" y="3898440"/>
                <a:ext cx="28440" cy="1908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842160" y="3876840"/>
                <a:ext cx="28440" cy="23760"/>
              </a:xfrm>
              <a:custGeom>
                <a:avLst/>
                <a:gdLst/>
                <a:ahLst/>
                <a:rect l="l" t="t" r="r" b="b"/>
                <a:pathLst>
                  <a:path w="18" h="15">
                    <a:moveTo>
                      <a:pt x="0" y="14"/>
                    </a:moveTo>
                    <a:lnTo>
                      <a:pt x="7" y="5"/>
                    </a:lnTo>
                    <a:lnTo>
                      <a:pt x="17" y="0"/>
                    </a:lnTo>
                  </a:path>
                </a:pathLst>
              </a:custGeom>
              <a:noFill/>
              <a:ln cap="rnd"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V="1">
                <a:off x="6869160" y="3862440"/>
                <a:ext cx="28440" cy="1440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897600" y="38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21" h="13">
                    <a:moveTo>
                      <a:pt x="0" y="12"/>
                    </a:moveTo>
                    <a:lnTo>
                      <a:pt x="9" y="5"/>
                    </a:lnTo>
                    <a:lnTo>
                      <a:pt x="20" y="0"/>
                    </a:lnTo>
                  </a:path>
                </a:pathLst>
              </a:custGeom>
              <a:noFill/>
              <a:ln cap="rnd"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V="1">
                <a:off x="6931080" y="3830400"/>
                <a:ext cx="27000" cy="1260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V="1">
                <a:off x="6956280" y="3812760"/>
                <a:ext cx="30240" cy="1764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986520" y="3794040"/>
                <a:ext cx="38160" cy="20880"/>
              </a:xfrm>
              <a:custGeom>
                <a:avLst/>
                <a:gdLst/>
                <a:ahLst/>
                <a:rect l="l" t="t" r="r" b="b"/>
                <a:pathLst>
                  <a:path w="24" h="13">
                    <a:moveTo>
                      <a:pt x="0" y="12"/>
                    </a:moveTo>
                    <a:lnTo>
                      <a:pt x="12" y="7"/>
                    </a:lnTo>
                    <a:lnTo>
                      <a:pt x="23" y="0"/>
                    </a:lnTo>
                  </a:path>
                </a:pathLst>
              </a:custGeom>
              <a:noFill/>
              <a:ln cap="rnd"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flipV="1">
                <a:off x="7023240" y="3781080"/>
                <a:ext cx="25200" cy="1260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V="1">
                <a:off x="7048440" y="3772080"/>
                <a:ext cx="27000" cy="93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075440" y="375768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24" h="10">
                    <a:moveTo>
                      <a:pt x="0" y="9"/>
                    </a:moveTo>
                    <a:lnTo>
                      <a:pt x="12" y="5"/>
                    </a:lnTo>
                    <a:lnTo>
                      <a:pt x="23" y="0"/>
                    </a:lnTo>
                  </a:path>
                </a:pathLst>
              </a:custGeom>
              <a:noFill/>
              <a:ln cap="rnd"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V="1">
                <a:off x="7112160" y="3744720"/>
                <a:ext cx="27000" cy="1260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V="1">
                <a:off x="7139160" y="3730680"/>
                <a:ext cx="26640" cy="1440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165800" y="3724200"/>
                <a:ext cx="36720" cy="7920"/>
              </a:xfrm>
              <a:custGeom>
                <a:avLst/>
                <a:gdLst/>
                <a:ahLst/>
                <a:rect l="l" t="t" r="r" b="b"/>
                <a:pathLst>
                  <a:path w="23" h="5">
                    <a:moveTo>
                      <a:pt x="0" y="4"/>
                    </a:moveTo>
                    <a:lnTo>
                      <a:pt x="10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V="1">
                <a:off x="7201080" y="3714840"/>
                <a:ext cx="28440" cy="93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229520" y="3701880"/>
                <a:ext cx="34920" cy="14400"/>
              </a:xfrm>
              <a:custGeom>
                <a:avLst/>
                <a:gdLst/>
                <a:ahLst/>
                <a:rect l="l" t="t" r="r" b="b"/>
                <a:pathLst>
                  <a:path w="22" h="9">
                    <a:moveTo>
                      <a:pt x="0" y="8"/>
                    </a:moveTo>
                    <a:lnTo>
                      <a:pt x="10" y="4"/>
                    </a:lnTo>
                    <a:lnTo>
                      <a:pt x="21" y="0"/>
                    </a:lnTo>
                  </a:path>
                </a:pathLst>
              </a:custGeom>
              <a:noFill/>
              <a:ln cap="rnd"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V="1">
                <a:off x="7262640" y="3692520"/>
                <a:ext cx="27000" cy="93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7289640" y="3684600"/>
                <a:ext cx="38160" cy="9360"/>
              </a:xfrm>
              <a:custGeom>
                <a:avLst/>
                <a:gdLst/>
                <a:ahLst/>
                <a:rect l="l" t="t" r="r" b="b"/>
                <a:pathLst>
                  <a:path w="24" h="6">
                    <a:moveTo>
                      <a:pt x="0" y="5"/>
                    </a:moveTo>
                    <a:lnTo>
                      <a:pt x="11" y="0"/>
                    </a:lnTo>
                    <a:lnTo>
                      <a:pt x="23" y="0"/>
                    </a:lnTo>
                  </a:path>
                </a:pathLst>
              </a:custGeom>
              <a:noFill/>
              <a:ln cap="rnd"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V="1">
                <a:off x="7326360" y="3675240"/>
                <a:ext cx="33120" cy="93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7353360" y="3675240"/>
                <a:ext cx="25200" cy="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7378560" y="3668760"/>
                <a:ext cx="42840" cy="7920"/>
              </a:xfrm>
              <a:custGeom>
                <a:avLst/>
                <a:gdLst/>
                <a:ahLst/>
                <a:rect l="l" t="t" r="r" b="b"/>
                <a:pathLst>
                  <a:path w="27" h="5">
                    <a:moveTo>
                      <a:pt x="0" y="4"/>
                    </a:moveTo>
                    <a:lnTo>
                      <a:pt x="15" y="4"/>
                    </a:lnTo>
                    <a:lnTo>
                      <a:pt x="26" y="0"/>
                    </a:lnTo>
                  </a:path>
                </a:pathLst>
              </a:custGeom>
              <a:noFill/>
              <a:ln cap="rnd"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V="1">
                <a:off x="7419960" y="3660840"/>
                <a:ext cx="27000" cy="7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7446960" y="3660840"/>
                <a:ext cx="31680" cy="1440"/>
              </a:xfrm>
              <a:custGeom>
                <a:avLst/>
                <a:gdLst/>
                <a:ahLst/>
                <a:rect l="l" t="t" r="r" b="b"/>
                <a:pathLst>
                  <a:path w="20" h="1">
                    <a:moveTo>
                      <a:pt x="0" y="0"/>
                    </a:moveTo>
                    <a:lnTo>
                      <a:pt x="9" y="0"/>
                    </a:lnTo>
                    <a:lnTo>
                      <a:pt x="19" y="0"/>
                    </a:lnTo>
                  </a:path>
                </a:pathLst>
              </a:custGeom>
              <a:noFill/>
              <a:ln cap="rnd"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7477200" y="3651120"/>
                <a:ext cx="31680" cy="11160"/>
              </a:xfrm>
              <a:custGeom>
                <a:avLst/>
                <a:gdLst/>
                <a:ahLst/>
                <a:rect l="l" t="t" r="r" b="b"/>
                <a:pathLst>
                  <a:path w="20" h="7">
                    <a:moveTo>
                      <a:pt x="0" y="6"/>
                    </a:moveTo>
                    <a:lnTo>
                      <a:pt x="8" y="0"/>
                    </a:lnTo>
                    <a:lnTo>
                      <a:pt x="19" y="0"/>
                    </a:lnTo>
                  </a:path>
                </a:pathLst>
              </a:custGeom>
              <a:noFill/>
              <a:ln cap="rnd"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7507440" y="3651120"/>
                <a:ext cx="37800" cy="1800"/>
              </a:xfrm>
              <a:custGeom>
                <a:avLst/>
                <a:gdLst/>
                <a:ahLst/>
                <a:rect l="l" t="t" r="r" b="b"/>
                <a:pathLst>
                  <a:path w="24" h="1">
                    <a:moveTo>
                      <a:pt x="0" y="0"/>
                    </a:moveTo>
                    <a:lnTo>
                      <a:pt x="11" y="0"/>
                    </a:lnTo>
                    <a:lnTo>
                      <a:pt x="23" y="0"/>
                    </a:lnTo>
                  </a:path>
                </a:pathLst>
              </a:custGeom>
              <a:noFill/>
              <a:ln cap="rnd"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7543800" y="3651120"/>
                <a:ext cx="30240" cy="19080"/>
              </a:xfrm>
              <a:custGeom>
                <a:avLst/>
                <a:gdLst/>
                <a:ahLst/>
                <a:rect l="l" t="t" r="r" b="b"/>
                <a:pathLst>
                  <a:path w="19" h="12">
                    <a:moveTo>
                      <a:pt x="0" y="0"/>
                    </a:moveTo>
                    <a:lnTo>
                      <a:pt x="5" y="6"/>
                    </a:lnTo>
                    <a:lnTo>
                      <a:pt x="18" y="11"/>
                    </a:lnTo>
                  </a:path>
                </a:pathLst>
              </a:custGeom>
              <a:noFill/>
              <a:ln cap="rnd"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572240" y="3668760"/>
                <a:ext cx="46080" cy="34920"/>
              </a:xfrm>
              <a:custGeom>
                <a:avLst/>
                <a:gdLst/>
                <a:ahLst/>
                <a:rect l="l" t="t" r="r" b="b"/>
                <a:pathLst>
                  <a:path w="29" h="22">
                    <a:moveTo>
                      <a:pt x="0" y="0"/>
                    </a:moveTo>
                    <a:lnTo>
                      <a:pt x="10" y="10"/>
                    </a:lnTo>
                    <a:lnTo>
                      <a:pt x="28" y="21"/>
                    </a:lnTo>
                  </a:path>
                </a:pathLst>
              </a:custGeom>
              <a:noFill/>
              <a:ln cap="rnd"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7616880" y="3701880"/>
                <a:ext cx="38160" cy="49320"/>
              </a:xfrm>
              <a:custGeom>
                <a:avLst/>
                <a:gdLst/>
                <a:ahLst/>
                <a:rect l="l" t="t" r="r" b="b"/>
                <a:pathLst>
                  <a:path w="24" h="31">
                    <a:moveTo>
                      <a:pt x="0" y="0"/>
                    </a:moveTo>
                    <a:lnTo>
                      <a:pt x="11" y="14"/>
                    </a:lnTo>
                    <a:lnTo>
                      <a:pt x="23" y="30"/>
                    </a:lnTo>
                  </a:path>
                </a:pathLst>
              </a:custGeom>
              <a:noFill/>
              <a:ln cap="rnd"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7653240" y="3745080"/>
                <a:ext cx="34920" cy="60120"/>
              </a:xfrm>
              <a:custGeom>
                <a:avLst/>
                <a:gdLst/>
                <a:ahLst/>
                <a:rect l="l" t="t" r="r" b="b"/>
                <a:pathLst>
                  <a:path w="22" h="38">
                    <a:moveTo>
                      <a:pt x="0" y="0"/>
                    </a:moveTo>
                    <a:lnTo>
                      <a:pt x="11" y="21"/>
                    </a:lnTo>
                    <a:lnTo>
                      <a:pt x="21" y="37"/>
                    </a:lnTo>
                  </a:path>
                </a:pathLst>
              </a:custGeom>
              <a:noFill/>
              <a:ln cap="rnd"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7686720" y="380376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11" y="11"/>
                    </a:lnTo>
                    <a:lnTo>
                      <a:pt x="17" y="17"/>
                    </a:lnTo>
                  </a:path>
                </a:pathLst>
              </a:custGeom>
              <a:noFill/>
              <a:ln cap="rnd"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7713720" y="3830760"/>
                <a:ext cx="31680" cy="1440"/>
              </a:xfrm>
              <a:custGeom>
                <a:avLst/>
                <a:gdLst/>
                <a:ahLst/>
                <a:rect l="l" t="t" r="r" b="b"/>
                <a:pathLst>
                  <a:path w="20" h="1">
                    <a:moveTo>
                      <a:pt x="0" y="0"/>
                    </a:moveTo>
                    <a:lnTo>
                      <a:pt x="5" y="0"/>
                    </a:lnTo>
                    <a:lnTo>
                      <a:pt x="19" y="0"/>
                    </a:lnTo>
                  </a:path>
                </a:pathLst>
              </a:custGeom>
              <a:noFill/>
              <a:ln cap="rnd"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V="1">
                <a:off x="7743960" y="3822840"/>
                <a:ext cx="23760" cy="7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7767720" y="380376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12"/>
                    </a:moveTo>
                    <a:lnTo>
                      <a:pt x="5" y="6"/>
                    </a:lnTo>
                    <a:lnTo>
                      <a:pt x="17" y="0"/>
                    </a:lnTo>
                  </a:path>
                </a:pathLst>
              </a:custGeom>
              <a:noFill/>
              <a:ln cap="rnd"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7794720" y="3763800"/>
                <a:ext cx="30240" cy="41400"/>
              </a:xfrm>
              <a:custGeom>
                <a:avLst/>
                <a:gdLst/>
                <a:ahLst/>
                <a:rect l="l" t="t" r="r" b="b"/>
                <a:pathLst>
                  <a:path w="19" h="26">
                    <a:moveTo>
                      <a:pt x="0" y="25"/>
                    </a:moveTo>
                    <a:lnTo>
                      <a:pt x="11" y="13"/>
                    </a:lnTo>
                    <a:lnTo>
                      <a:pt x="18" y="0"/>
                    </a:lnTo>
                  </a:path>
                </a:pathLst>
              </a:custGeom>
              <a:noFill/>
              <a:ln cap="rnd"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7823160" y="3701880"/>
                <a:ext cx="22320" cy="63720"/>
              </a:xfrm>
              <a:custGeom>
                <a:avLst/>
                <a:gdLst/>
                <a:ahLst/>
                <a:rect l="l" t="t" r="r" b="b"/>
                <a:pathLst>
                  <a:path w="14" h="40">
                    <a:moveTo>
                      <a:pt x="0" y="39"/>
                    </a:moveTo>
                    <a:lnTo>
                      <a:pt x="6" y="19"/>
                    </a:lnTo>
                    <a:lnTo>
                      <a:pt x="13" y="0"/>
                    </a:lnTo>
                  </a:path>
                </a:pathLst>
              </a:custGeom>
              <a:noFill/>
              <a:ln cap="rnd"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7843680" y="3641400"/>
                <a:ext cx="25560" cy="601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869240" y="3579840"/>
                <a:ext cx="38160" cy="63360"/>
              </a:xfrm>
              <a:custGeom>
                <a:avLst/>
                <a:gdLst/>
                <a:ahLst/>
                <a:rect l="l" t="t" r="r" b="b"/>
                <a:pathLst>
                  <a:path w="24" h="40">
                    <a:moveTo>
                      <a:pt x="0" y="39"/>
                    </a:moveTo>
                    <a:lnTo>
                      <a:pt x="11" y="20"/>
                    </a:lnTo>
                    <a:lnTo>
                      <a:pt x="23" y="0"/>
                    </a:lnTo>
                  </a:path>
                </a:pathLst>
              </a:custGeom>
              <a:noFill/>
              <a:ln cap="rnd"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7905600" y="3506760"/>
                <a:ext cx="24120" cy="74520"/>
              </a:xfrm>
              <a:custGeom>
                <a:avLst/>
                <a:gdLst/>
                <a:ahLst/>
                <a:rect l="l" t="t" r="r" b="b"/>
                <a:pathLst>
                  <a:path w="15" h="47">
                    <a:moveTo>
                      <a:pt x="0" y="46"/>
                    </a:moveTo>
                    <a:lnTo>
                      <a:pt x="6" y="22"/>
                    </a:lnTo>
                    <a:lnTo>
                      <a:pt x="14" y="0"/>
                    </a:lnTo>
                  </a:path>
                </a:pathLst>
              </a:custGeom>
              <a:noFill/>
              <a:ln cap="rnd"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V="1">
                <a:off x="7927920" y="3444840"/>
                <a:ext cx="39600" cy="61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V="1">
                <a:off x="7967520" y="3379320"/>
                <a:ext cx="34920" cy="651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8002440" y="3308400"/>
                <a:ext cx="38160" cy="73080"/>
              </a:xfrm>
              <a:custGeom>
                <a:avLst/>
                <a:gdLst/>
                <a:ahLst/>
                <a:rect l="l" t="t" r="r" b="b"/>
                <a:pathLst>
                  <a:path w="24" h="46">
                    <a:moveTo>
                      <a:pt x="0" y="45"/>
                    </a:moveTo>
                    <a:lnTo>
                      <a:pt x="10" y="19"/>
                    </a:lnTo>
                    <a:lnTo>
                      <a:pt x="23" y="0"/>
                    </a:lnTo>
                  </a:path>
                </a:pathLst>
              </a:custGeom>
              <a:noFill/>
              <a:ln cap="rnd"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V="1">
                <a:off x="8039160" y="3242880"/>
                <a:ext cx="46080" cy="651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V="1">
                <a:off x="8085240" y="3184200"/>
                <a:ext cx="33120" cy="5868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8118360" y="3129120"/>
                <a:ext cx="47880" cy="5544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flipV="1">
                <a:off x="8166240" y="3079440"/>
                <a:ext cx="44280" cy="493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8210520" y="3044880"/>
                <a:ext cx="49320" cy="36360"/>
              </a:xfrm>
              <a:custGeom>
                <a:avLst/>
                <a:gdLst/>
                <a:ahLst/>
                <a:rect l="l" t="t" r="r" b="b"/>
                <a:pathLst>
                  <a:path w="31" h="23">
                    <a:moveTo>
                      <a:pt x="0" y="22"/>
                    </a:moveTo>
                    <a:lnTo>
                      <a:pt x="16" y="8"/>
                    </a:lnTo>
                    <a:lnTo>
                      <a:pt x="30" y="0"/>
                    </a:lnTo>
                  </a:path>
                </a:pathLst>
              </a:custGeom>
              <a:noFill/>
              <a:ln cap="rnd"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8264520" y="3017880"/>
                <a:ext cx="44280" cy="223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flipV="1">
                <a:off x="8308800" y="3002040"/>
                <a:ext cx="44640" cy="1584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8353440" y="2997360"/>
                <a:ext cx="47520" cy="6120"/>
              </a:xfrm>
              <a:custGeom>
                <a:avLst/>
                <a:gdLst/>
                <a:ahLst/>
                <a:rect l="l" t="t" r="r" b="b"/>
                <a:pathLst>
                  <a:path w="30" h="4">
                    <a:moveTo>
                      <a:pt x="0" y="3"/>
                    </a:moveTo>
                    <a:lnTo>
                      <a:pt x="19" y="0"/>
                    </a:lnTo>
                    <a:lnTo>
                      <a:pt x="29" y="0"/>
                    </a:lnTo>
                  </a:path>
                </a:pathLst>
              </a:custGeom>
              <a:noFill/>
              <a:ln cap="rnd"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8399520" y="2997360"/>
                <a:ext cx="15840" cy="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4" name=""/>
            <p:cNvGrpSpPr/>
            <p:nvPr/>
          </p:nvGrpSpPr>
          <p:grpSpPr>
            <a:xfrm>
              <a:off x="5629320" y="2852640"/>
              <a:ext cx="336240" cy="2553120"/>
              <a:chOff x="5629320" y="2852640"/>
              <a:chExt cx="336240" cy="2553120"/>
            </a:xfrm>
          </p:grpSpPr>
          <p:sp>
            <p:nvSpPr>
              <p:cNvPr id="475" name=""/>
              <p:cNvSpPr/>
              <p:nvPr/>
            </p:nvSpPr>
            <p:spPr>
              <a:xfrm>
                <a:off x="5735520" y="521028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629320" y="4873680"/>
                <a:ext cx="27900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629320" y="499752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629680" y="4538520"/>
                <a:ext cx="32760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0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629680" y="4203720"/>
                <a:ext cx="32760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30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629680" y="3860640"/>
                <a:ext cx="32760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40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629680" y="3524400"/>
                <a:ext cx="32760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50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629680" y="3187800"/>
                <a:ext cx="32760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60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629680" y="2852640"/>
                <a:ext cx="32760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70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4" name=""/>
            <p:cNvGrpSpPr/>
            <p:nvPr/>
          </p:nvGrpSpPr>
          <p:grpSpPr>
            <a:xfrm>
              <a:off x="5832360" y="5340240"/>
              <a:ext cx="3246120" cy="324000"/>
              <a:chOff x="5832360" y="5340240"/>
              <a:chExt cx="3246120" cy="324000"/>
            </a:xfrm>
          </p:grpSpPr>
          <p:sp>
            <p:nvSpPr>
              <p:cNvPr id="485" name=""/>
              <p:cNvSpPr/>
              <p:nvPr/>
            </p:nvSpPr>
            <p:spPr>
              <a:xfrm>
                <a:off x="5832360" y="534024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382080" y="5340240"/>
                <a:ext cx="32760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0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974280" y="5340240"/>
                <a:ext cx="32760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40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579080" y="5340240"/>
                <a:ext cx="32760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60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8168040" y="5340240"/>
                <a:ext cx="32760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80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8750880" y="5340240"/>
                <a:ext cx="32760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8750160" y="546876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2" name=""/>
            <p:cNvSpPr/>
            <p:nvPr/>
          </p:nvSpPr>
          <p:spPr>
            <a:xfrm>
              <a:off x="5568840" y="2749680"/>
              <a:ext cx="3548160" cy="2876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978600" y="4307040"/>
              <a:ext cx="1015920" cy="214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907320" y="4292640"/>
              <a:ext cx="9846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Typical Launc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734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rcraft Set-Up for Laun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-span launch camber typically 20 to 25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vator pre-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fliers have too little up pre-set and/or towhook too far for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Aileron to Rudder m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w hook position (very importa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um needs just a little up pre-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734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hr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general, as hard as possible with as much tension as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eption - circle t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uld be more vert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2895480" y="3664080"/>
          <a:ext cx="4687920" cy="311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3664080"/>
                    <a:ext cx="4687920" cy="31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734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ffect of Zoom 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oom start point from 50° to 95°, measured from the turna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oom early in the wind (30 ft/sec wind optimum is 60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3" name=""/>
          <p:cNvGraphicFramePr/>
          <p:nvPr/>
        </p:nvGraphicFramePr>
        <p:xfrm>
          <a:off x="200160" y="3720960"/>
          <a:ext cx="4518000" cy="280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160" y="3720960"/>
                    <a:ext cx="4518000" cy="280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5" name=""/>
          <p:cNvGraphicFramePr/>
          <p:nvPr/>
        </p:nvGraphicFramePr>
        <p:xfrm>
          <a:off x="4724280" y="3171960"/>
          <a:ext cx="4337280" cy="335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3171960"/>
                    <a:ext cx="4337280" cy="33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734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eep to Zo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better to be too shallow than too de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ullout is very expensive in ener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eper = faster (and draggier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your pullout with 10 to 20 lbs ten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st with a slight “pop” of the ch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 to nearly vertical quickly (hard pull-ou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st transition from high drag to low dr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734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ch Optim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 correct drum size for the cond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 “right” resistive mate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y Constant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imize losses in th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vy duty seleno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, short cab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1" name=""/>
          <p:cNvGraphicFramePr/>
          <p:nvPr/>
        </p:nvGraphicFramePr>
        <p:xfrm>
          <a:off x="4838760" y="3809880"/>
          <a:ext cx="4282920" cy="27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38760" y="3809880"/>
                    <a:ext cx="4282920" cy="27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734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 Optim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87392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e 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the minimum size that wil not bre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etch characteri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um line for wind is different than no wi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 that has some plasticity is good for “weaving” in the wi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bound characteri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lines do not spring back quick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734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stem Lo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iggest is line drag in the 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um line size for the cond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pability on t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chute drag is import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parachute and shroud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y “double-hooking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rcraft set-up can have a factor (Trim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734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ering on T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ing on tow is similar to flying very slowly (high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should use a lot of rudder along with a little ailer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re is little tension, the plane might need some down elev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9" name=""/>
          <p:cNvGraphicFramePr/>
          <p:nvPr/>
        </p:nvGraphicFramePr>
        <p:xfrm>
          <a:off x="3048120" y="4746600"/>
          <a:ext cx="2685960" cy="215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4746600"/>
                    <a:ext cx="2685960" cy="21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1" name=""/>
          <p:cNvSpPr/>
          <p:nvPr/>
        </p:nvSpPr>
        <p:spPr>
          <a:xfrm>
            <a:off x="5698440" y="5386320"/>
            <a:ext cx="17481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e line ten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behind the C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734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mal Theory -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 definition: lighter than the surrounding 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mal sha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um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b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organized blo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734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osswind Launc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ptimum launch is from straight downwind of the turna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soon as is practical after the throw, turn the aircraft to get downwind of the turnar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turn back up the tow to finish the laun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ide benefit is that you can better gauge your zoom dive/pull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734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ircle (Weave) Tow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asic idea is to use the energy of the wind instead of the winch mo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 that stays off of the drum helps your launch he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sion is ever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weaving to build tension and gain altit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734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mal Theory -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mate Influ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mid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nd mois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pse 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rsion h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ud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734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mal Theory -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acter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eds from warm air near the 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ifts with the wi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raction to other therm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mal aspect rat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5057640" y="3733920"/>
          <a:ext cx="3216240" cy="23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57640" y="3733920"/>
                    <a:ext cx="3216240" cy="23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734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 -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ues to Finding Therm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cting thermal in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ow 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 lulls, ch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 shif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not confuse with thermal in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nd sig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k for the “third vector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3706920" y="5076720"/>
            <a:ext cx="5070600" cy="1591200"/>
            <a:chOff x="3706920" y="5076720"/>
            <a:chExt cx="5070600" cy="1591200"/>
          </a:xfrm>
        </p:grpSpPr>
        <p:sp>
          <p:nvSpPr>
            <p:cNvPr id="64" name=""/>
            <p:cNvSpPr/>
            <p:nvPr/>
          </p:nvSpPr>
          <p:spPr>
            <a:xfrm rot="5340000">
              <a:off x="7654680" y="5670360"/>
              <a:ext cx="442800" cy="125280"/>
            </a:xfrm>
            <a:prstGeom prst="rightArrow">
              <a:avLst>
                <a:gd name="adj1" fmla="val 50000"/>
                <a:gd name="adj2" fmla="val 176740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635880" y="5416560"/>
              <a:ext cx="1201680" cy="139680"/>
            </a:xfrm>
            <a:prstGeom prst="rightArrow">
              <a:avLst>
                <a:gd name="adj1" fmla="val 50000"/>
                <a:gd name="adj2" fmla="val 430194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1080000">
              <a:off x="6582960" y="5622480"/>
              <a:ext cx="1274760" cy="241560"/>
            </a:xfrm>
            <a:prstGeom prst="rightArrow">
              <a:avLst>
                <a:gd name="adj1" fmla="val 50000"/>
                <a:gd name="adj2" fmla="val 263884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867280" y="5867280"/>
              <a:ext cx="1449360" cy="306360"/>
            </a:xfrm>
            <a:custGeom>
              <a:avLst/>
              <a:gdLst/>
              <a:ahLst/>
              <a:rect l="l" t="t" r="r" b="b"/>
              <a:pathLst>
                <a:path w="913" h="193">
                  <a:moveTo>
                    <a:pt x="0" y="192"/>
                  </a:moveTo>
                  <a:lnTo>
                    <a:pt x="288" y="192"/>
                  </a:lnTo>
                  <a:lnTo>
                    <a:pt x="91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706920" y="5969160"/>
              <a:ext cx="18716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hat you fe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Wind + Inflow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537960" y="5076720"/>
              <a:ext cx="690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i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986600" y="5533920"/>
              <a:ext cx="790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flo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5927400" y="1952640"/>
            <a:ext cx="2676600" cy="2689920"/>
            <a:chOff x="5927400" y="1952640"/>
            <a:chExt cx="2676600" cy="2689920"/>
          </a:xfrm>
        </p:grpSpPr>
        <p:sp>
          <p:nvSpPr>
            <p:cNvPr id="72" name=""/>
            <p:cNvSpPr/>
            <p:nvPr/>
          </p:nvSpPr>
          <p:spPr>
            <a:xfrm>
              <a:off x="7169040" y="2216160"/>
              <a:ext cx="1206720" cy="216000"/>
            </a:xfrm>
            <a:prstGeom prst="rightArrow">
              <a:avLst>
                <a:gd name="adj1" fmla="val 50000"/>
                <a:gd name="adj2" fmla="val 279359"/>
              </a:avLst>
            </a:prstGeom>
            <a:solidFill>
              <a:srgbClr val="dadad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6788160" y="2749680"/>
              <a:ext cx="1815840" cy="1892880"/>
              <a:chOff x="6788160" y="2749680"/>
              <a:chExt cx="1815840" cy="1892880"/>
            </a:xfrm>
          </p:grpSpPr>
          <p:sp>
            <p:nvSpPr>
              <p:cNvPr id="74" name=""/>
              <p:cNvSpPr/>
              <p:nvPr/>
            </p:nvSpPr>
            <p:spPr>
              <a:xfrm>
                <a:off x="6788160" y="3816360"/>
                <a:ext cx="444600" cy="139680"/>
              </a:xfrm>
              <a:prstGeom prst="rightArrow">
                <a:avLst>
                  <a:gd name="adj1" fmla="val 50000"/>
                  <a:gd name="adj2" fmla="val 159164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6140000">
                <a:off x="7473600" y="4349160"/>
                <a:ext cx="444600" cy="139680"/>
              </a:xfrm>
              <a:prstGeom prst="rightArrow">
                <a:avLst>
                  <a:gd name="adj1" fmla="val 50000"/>
                  <a:gd name="adj2" fmla="val 159164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>
                <a:off x="8159040" y="3816360"/>
                <a:ext cx="444600" cy="139680"/>
              </a:xfrm>
              <a:prstGeom prst="rightArrow">
                <a:avLst>
                  <a:gd name="adj1" fmla="val 50000"/>
                  <a:gd name="adj2" fmla="val 159164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340000">
                <a:off x="7473600" y="3206520"/>
                <a:ext cx="444600" cy="139680"/>
              </a:xfrm>
              <a:prstGeom prst="rightArrow">
                <a:avLst>
                  <a:gd name="adj1" fmla="val 50000"/>
                  <a:gd name="adj2" fmla="val 159164"/>
                </a:avLst>
              </a:prstGeom>
              <a:solidFill>
                <a:srgbClr val="dadad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2820000">
                <a:off x="6864120" y="3344400"/>
                <a:ext cx="444600" cy="139680"/>
              </a:xfrm>
              <a:prstGeom prst="rightArrow">
                <a:avLst>
                  <a:gd name="adj1" fmla="val 50000"/>
                  <a:gd name="adj2" fmla="val 159164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rot="18960000">
                <a:off x="6940080" y="4211280"/>
                <a:ext cx="444600" cy="139680"/>
              </a:xfrm>
              <a:prstGeom prst="rightArrow">
                <a:avLst>
                  <a:gd name="adj1" fmla="val 50000"/>
                  <a:gd name="adj2" fmla="val 159164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2820000">
                <a:off x="7991280" y="4281480"/>
                <a:ext cx="447840" cy="168480"/>
              </a:xfrm>
              <a:prstGeom prst="rightArrow">
                <a:avLst>
                  <a:gd name="adj1" fmla="val 50000"/>
                  <a:gd name="adj2" fmla="val 132918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8160000">
                <a:off x="8007480" y="3344760"/>
                <a:ext cx="444240" cy="139680"/>
              </a:xfrm>
              <a:prstGeom prst="rightArrow">
                <a:avLst>
                  <a:gd name="adj1" fmla="val 50000"/>
                  <a:gd name="adj2" fmla="val 159035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397640" y="3587760"/>
                <a:ext cx="520920" cy="520560"/>
              </a:xfrm>
              <a:custGeom>
                <a:avLst/>
                <a:gdLst>
                  <a:gd name="textAreaLeft" fmla="*/ 118800 w 520920"/>
                  <a:gd name="textAreaRight" fmla="*/ 402120 w 520920"/>
                  <a:gd name="textAreaTop" fmla="*/ 118800 h 520560"/>
                  <a:gd name="textAreaBottom" fmla="*/ 401760 h 520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7626240" y="2889360"/>
                <a:ext cx="63720" cy="164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702560" y="2901960"/>
                <a:ext cx="6336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V="1">
                <a:off x="7696080" y="2812680"/>
                <a:ext cx="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>
                <a:off x="7613280" y="2825640"/>
                <a:ext cx="88920" cy="63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702560" y="2825640"/>
                <a:ext cx="63360" cy="63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26240" y="2749680"/>
                <a:ext cx="139680" cy="633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>
              <a:off x="7071480" y="1952640"/>
              <a:ext cx="690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i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27400" y="2867040"/>
              <a:ext cx="1626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hermal Inflo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734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 -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hird Vec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9"/>
              </a:spcAft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tal vector math = Direction to ther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to look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mporary changes in the wi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765440" y="2209680"/>
          <a:ext cx="5356080" cy="179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5440" y="2209680"/>
                    <a:ext cx="5356080" cy="17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 rot="5340000">
            <a:off x="7741440" y="5642280"/>
            <a:ext cx="379440" cy="120960"/>
          </a:xfrm>
          <a:prstGeom prst="rightArrow">
            <a:avLst>
              <a:gd name="adj1" fmla="val 50000"/>
              <a:gd name="adj2" fmla="val 15686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62680" y="5402160"/>
            <a:ext cx="1032120" cy="131760"/>
          </a:xfrm>
          <a:prstGeom prst="rightArrow">
            <a:avLst>
              <a:gd name="adj1" fmla="val 50000"/>
              <a:gd name="adj2" fmla="val 39170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">
            <a:off x="6818040" y="5599080"/>
            <a:ext cx="1095120" cy="228600"/>
          </a:xfrm>
          <a:prstGeom prst="rightArrow">
            <a:avLst>
              <a:gd name="adj1" fmla="val 50000"/>
              <a:gd name="adj2" fmla="val 23955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199200" y="5830920"/>
            <a:ext cx="1249200" cy="291960"/>
          </a:xfrm>
          <a:custGeom>
            <a:avLst/>
            <a:gdLst/>
            <a:ahLst/>
            <a:rect l="l" t="t" r="r" b="b"/>
            <a:pathLst>
              <a:path w="787" h="184">
                <a:moveTo>
                  <a:pt x="0" y="183"/>
                </a:moveTo>
                <a:lnTo>
                  <a:pt x="248" y="183"/>
                </a:lnTo>
                <a:lnTo>
                  <a:pt x="78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49680" y="5850000"/>
            <a:ext cx="18334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nd + Inf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What you fe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765120" y="5075280"/>
            <a:ext cx="690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010360" y="5511960"/>
            <a:ext cx="790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017440" y="2781360"/>
            <a:ext cx="786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rm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13000" y="2670120"/>
            <a:ext cx="559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Wi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734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 -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hird Vec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9"/>
              </a:spcAft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tal vector math = Direction to ther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765440" y="2209680"/>
          <a:ext cx="5356080" cy="179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5440" y="2209680"/>
                    <a:ext cx="5356080" cy="17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 rot="5340000">
            <a:off x="7409520" y="5148720"/>
            <a:ext cx="379080" cy="120600"/>
          </a:xfrm>
          <a:prstGeom prst="rightArrow">
            <a:avLst>
              <a:gd name="adj1" fmla="val 50000"/>
              <a:gd name="adj2" fmla="val 157179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531120" y="4908600"/>
            <a:ext cx="1031760" cy="131760"/>
          </a:xfrm>
          <a:prstGeom prst="rightArrow">
            <a:avLst>
              <a:gd name="adj1" fmla="val 50000"/>
              <a:gd name="adj2" fmla="val 39156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1080000">
            <a:off x="6486120" y="5105520"/>
            <a:ext cx="1095480" cy="228600"/>
          </a:xfrm>
          <a:prstGeom prst="rightArrow">
            <a:avLst>
              <a:gd name="adj1" fmla="val 50000"/>
              <a:gd name="adj2" fmla="val 239628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91320" y="5337000"/>
            <a:ext cx="1249200" cy="292320"/>
          </a:xfrm>
          <a:custGeom>
            <a:avLst/>
            <a:gdLst/>
            <a:ahLst/>
            <a:rect l="l" t="t" r="r" b="b"/>
            <a:pathLst>
              <a:path w="787" h="184">
                <a:moveTo>
                  <a:pt x="0" y="183"/>
                </a:moveTo>
                <a:lnTo>
                  <a:pt x="248" y="183"/>
                </a:lnTo>
                <a:lnTo>
                  <a:pt x="78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217040" y="5397480"/>
            <a:ext cx="1626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you fe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7080" y="4581360"/>
            <a:ext cx="690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72320" y="5018040"/>
            <a:ext cx="790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114800" y="4876920"/>
            <a:ext cx="1031760" cy="131760"/>
          </a:xfrm>
          <a:prstGeom prst="rightArrow">
            <a:avLst>
              <a:gd name="adj1" fmla="val 50000"/>
              <a:gd name="adj2" fmla="val 39156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600200" y="5029200"/>
            <a:ext cx="1276200" cy="1117440"/>
            <a:chOff x="1600200" y="5029200"/>
            <a:chExt cx="1276200" cy="1117440"/>
          </a:xfrm>
        </p:grpSpPr>
        <p:sp>
          <p:nvSpPr>
            <p:cNvPr id="117" name=""/>
            <p:cNvSpPr/>
            <p:nvPr/>
          </p:nvSpPr>
          <p:spPr>
            <a:xfrm>
              <a:off x="1896840" y="5288040"/>
              <a:ext cx="677880" cy="60948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170080" y="5908680"/>
              <a:ext cx="155520" cy="214200"/>
            </a:xfrm>
            <a:custGeom>
              <a:avLst/>
              <a:gdLst/>
              <a:ahLst/>
              <a:rect l="l" t="t" r="r" b="b"/>
              <a:pathLst>
                <a:path w="194" h="406">
                  <a:moveTo>
                    <a:pt x="146" y="406"/>
                  </a:moveTo>
                  <a:lnTo>
                    <a:pt x="146" y="162"/>
                  </a:lnTo>
                  <a:lnTo>
                    <a:pt x="194" y="162"/>
                  </a:lnTo>
                  <a:lnTo>
                    <a:pt x="97" y="0"/>
                  </a:lnTo>
                  <a:lnTo>
                    <a:pt x="0" y="162"/>
                  </a:lnTo>
                  <a:lnTo>
                    <a:pt x="57" y="162"/>
                  </a:lnTo>
                  <a:lnTo>
                    <a:pt x="57" y="406"/>
                  </a:lnTo>
                  <a:lnTo>
                    <a:pt x="146" y="40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157480" y="5931000"/>
              <a:ext cx="153720" cy="215640"/>
            </a:xfrm>
            <a:custGeom>
              <a:avLst/>
              <a:gdLst/>
              <a:ahLst/>
              <a:rect l="l" t="t" r="r" b="b"/>
              <a:pathLst>
                <a:path w="195" h="406">
                  <a:moveTo>
                    <a:pt x="146" y="406"/>
                  </a:moveTo>
                  <a:lnTo>
                    <a:pt x="146" y="162"/>
                  </a:lnTo>
                  <a:lnTo>
                    <a:pt x="195" y="162"/>
                  </a:lnTo>
                  <a:lnTo>
                    <a:pt x="97" y="0"/>
                  </a:lnTo>
                  <a:lnTo>
                    <a:pt x="0" y="162"/>
                  </a:lnTo>
                  <a:lnTo>
                    <a:pt x="57" y="162"/>
                  </a:lnTo>
                  <a:lnTo>
                    <a:pt x="57" y="406"/>
                  </a:lnTo>
                  <a:lnTo>
                    <a:pt x="146" y="40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768320" y="5818320"/>
              <a:ext cx="203400" cy="172800"/>
            </a:xfrm>
            <a:custGeom>
              <a:avLst/>
              <a:gdLst/>
              <a:ahLst/>
              <a:rect l="l" t="t" r="r" b="b"/>
              <a:pathLst>
                <a:path w="254" h="329">
                  <a:moveTo>
                    <a:pt x="62" y="329"/>
                  </a:moveTo>
                  <a:lnTo>
                    <a:pt x="199" y="156"/>
                  </a:lnTo>
                  <a:lnTo>
                    <a:pt x="232" y="199"/>
                  </a:lnTo>
                  <a:lnTo>
                    <a:pt x="254" y="0"/>
                  </a:lnTo>
                  <a:lnTo>
                    <a:pt x="96" y="28"/>
                  </a:lnTo>
                  <a:lnTo>
                    <a:pt x="135" y="78"/>
                  </a:lnTo>
                  <a:lnTo>
                    <a:pt x="0" y="250"/>
                  </a:lnTo>
                  <a:lnTo>
                    <a:pt x="62" y="32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755720" y="5840280"/>
              <a:ext cx="201600" cy="174600"/>
            </a:xfrm>
            <a:custGeom>
              <a:avLst/>
              <a:gdLst/>
              <a:ahLst/>
              <a:rect l="l" t="t" r="r" b="b"/>
              <a:pathLst>
                <a:path w="255" h="329">
                  <a:moveTo>
                    <a:pt x="62" y="329"/>
                  </a:moveTo>
                  <a:lnTo>
                    <a:pt x="198" y="156"/>
                  </a:lnTo>
                  <a:lnTo>
                    <a:pt x="232" y="199"/>
                  </a:lnTo>
                  <a:lnTo>
                    <a:pt x="255" y="0"/>
                  </a:lnTo>
                  <a:lnTo>
                    <a:pt x="97" y="28"/>
                  </a:lnTo>
                  <a:lnTo>
                    <a:pt x="136" y="78"/>
                  </a:lnTo>
                  <a:lnTo>
                    <a:pt x="0" y="249"/>
                  </a:lnTo>
                  <a:lnTo>
                    <a:pt x="62" y="32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612800" y="5513400"/>
              <a:ext cx="255600" cy="128520"/>
            </a:xfrm>
            <a:custGeom>
              <a:avLst/>
              <a:gdLst/>
              <a:ahLst/>
              <a:rect l="l" t="t" r="r" b="b"/>
              <a:pathLst>
                <a:path w="322" h="245">
                  <a:moveTo>
                    <a:pt x="0" y="184"/>
                  </a:moveTo>
                  <a:lnTo>
                    <a:pt x="194" y="184"/>
                  </a:lnTo>
                  <a:lnTo>
                    <a:pt x="194" y="245"/>
                  </a:lnTo>
                  <a:lnTo>
                    <a:pt x="322" y="122"/>
                  </a:lnTo>
                  <a:lnTo>
                    <a:pt x="194" y="0"/>
                  </a:lnTo>
                  <a:lnTo>
                    <a:pt x="194" y="72"/>
                  </a:lnTo>
                  <a:lnTo>
                    <a:pt x="0" y="72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600200" y="5535720"/>
              <a:ext cx="255600" cy="129960"/>
            </a:xfrm>
            <a:custGeom>
              <a:avLst/>
              <a:gdLst/>
              <a:ahLst/>
              <a:rect l="l" t="t" r="r" b="b"/>
              <a:pathLst>
                <a:path w="321" h="245">
                  <a:moveTo>
                    <a:pt x="0" y="184"/>
                  </a:moveTo>
                  <a:lnTo>
                    <a:pt x="192" y="184"/>
                  </a:lnTo>
                  <a:lnTo>
                    <a:pt x="192" y="245"/>
                  </a:lnTo>
                  <a:lnTo>
                    <a:pt x="321" y="123"/>
                  </a:lnTo>
                  <a:lnTo>
                    <a:pt x="192" y="0"/>
                  </a:lnTo>
                  <a:lnTo>
                    <a:pt x="192" y="72"/>
                  </a:lnTo>
                  <a:lnTo>
                    <a:pt x="0" y="72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63640" y="5173560"/>
              <a:ext cx="208080" cy="169920"/>
            </a:xfrm>
            <a:custGeom>
              <a:avLst/>
              <a:gdLst/>
              <a:ahLst/>
              <a:rect l="l" t="t" r="r" b="b"/>
              <a:pathLst>
                <a:path w="260" h="321">
                  <a:moveTo>
                    <a:pt x="0" y="78"/>
                  </a:moveTo>
                  <a:lnTo>
                    <a:pt x="135" y="249"/>
                  </a:lnTo>
                  <a:lnTo>
                    <a:pt x="102" y="292"/>
                  </a:lnTo>
                  <a:lnTo>
                    <a:pt x="260" y="321"/>
                  </a:lnTo>
                  <a:lnTo>
                    <a:pt x="238" y="121"/>
                  </a:lnTo>
                  <a:lnTo>
                    <a:pt x="198" y="171"/>
                  </a:lnTo>
                  <a:lnTo>
                    <a:pt x="62" y="0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751040" y="5195880"/>
              <a:ext cx="206280" cy="169920"/>
            </a:xfrm>
            <a:custGeom>
              <a:avLst/>
              <a:gdLst/>
              <a:ahLst/>
              <a:rect l="l" t="t" r="r" b="b"/>
              <a:pathLst>
                <a:path w="262" h="322">
                  <a:moveTo>
                    <a:pt x="0" y="79"/>
                  </a:moveTo>
                  <a:lnTo>
                    <a:pt x="137" y="251"/>
                  </a:lnTo>
                  <a:lnTo>
                    <a:pt x="102" y="293"/>
                  </a:lnTo>
                  <a:lnTo>
                    <a:pt x="262" y="322"/>
                  </a:lnTo>
                  <a:lnTo>
                    <a:pt x="239" y="123"/>
                  </a:lnTo>
                  <a:lnTo>
                    <a:pt x="199" y="173"/>
                  </a:lnTo>
                  <a:lnTo>
                    <a:pt x="63" y="0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70080" y="5029200"/>
              <a:ext cx="155520" cy="214200"/>
            </a:xfrm>
            <a:custGeom>
              <a:avLst/>
              <a:gdLst/>
              <a:ahLst/>
              <a:rect l="l" t="t" r="r" b="b"/>
              <a:pathLst>
                <a:path w="194" h="404">
                  <a:moveTo>
                    <a:pt x="48" y="0"/>
                  </a:moveTo>
                  <a:lnTo>
                    <a:pt x="48" y="243"/>
                  </a:lnTo>
                  <a:lnTo>
                    <a:pt x="0" y="243"/>
                  </a:lnTo>
                  <a:lnTo>
                    <a:pt x="97" y="404"/>
                  </a:lnTo>
                  <a:lnTo>
                    <a:pt x="194" y="243"/>
                  </a:lnTo>
                  <a:lnTo>
                    <a:pt x="137" y="243"/>
                  </a:lnTo>
                  <a:lnTo>
                    <a:pt x="137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157480" y="5051520"/>
              <a:ext cx="153720" cy="214200"/>
            </a:xfrm>
            <a:custGeom>
              <a:avLst/>
              <a:gdLst/>
              <a:ahLst/>
              <a:rect l="l" t="t" r="r" b="b"/>
              <a:pathLst>
                <a:path w="195" h="405">
                  <a:moveTo>
                    <a:pt x="49" y="0"/>
                  </a:moveTo>
                  <a:lnTo>
                    <a:pt x="49" y="243"/>
                  </a:lnTo>
                  <a:lnTo>
                    <a:pt x="0" y="243"/>
                  </a:lnTo>
                  <a:lnTo>
                    <a:pt x="97" y="405"/>
                  </a:lnTo>
                  <a:lnTo>
                    <a:pt x="195" y="243"/>
                  </a:lnTo>
                  <a:lnTo>
                    <a:pt x="138" y="243"/>
                  </a:lnTo>
                  <a:lnTo>
                    <a:pt x="138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538360" y="5160960"/>
              <a:ext cx="203040" cy="173160"/>
            </a:xfrm>
            <a:custGeom>
              <a:avLst/>
              <a:gdLst/>
              <a:ahLst/>
              <a:rect l="l" t="t" r="r" b="b"/>
              <a:pathLst>
                <a:path w="257" h="329">
                  <a:moveTo>
                    <a:pt x="195" y="0"/>
                  </a:moveTo>
                  <a:lnTo>
                    <a:pt x="57" y="172"/>
                  </a:lnTo>
                  <a:lnTo>
                    <a:pt x="23" y="129"/>
                  </a:lnTo>
                  <a:lnTo>
                    <a:pt x="0" y="329"/>
                  </a:lnTo>
                  <a:lnTo>
                    <a:pt x="160" y="300"/>
                  </a:lnTo>
                  <a:lnTo>
                    <a:pt x="120" y="251"/>
                  </a:lnTo>
                  <a:lnTo>
                    <a:pt x="257" y="79"/>
                  </a:lnTo>
                  <a:lnTo>
                    <a:pt x="19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23960" y="5183280"/>
              <a:ext cx="204840" cy="174600"/>
            </a:xfrm>
            <a:custGeom>
              <a:avLst/>
              <a:gdLst/>
              <a:ahLst/>
              <a:rect l="l" t="t" r="r" b="b"/>
              <a:pathLst>
                <a:path w="256" h="329">
                  <a:moveTo>
                    <a:pt x="193" y="0"/>
                  </a:moveTo>
                  <a:lnTo>
                    <a:pt x="57" y="172"/>
                  </a:lnTo>
                  <a:lnTo>
                    <a:pt x="22" y="129"/>
                  </a:lnTo>
                  <a:lnTo>
                    <a:pt x="0" y="329"/>
                  </a:lnTo>
                  <a:lnTo>
                    <a:pt x="159" y="300"/>
                  </a:lnTo>
                  <a:lnTo>
                    <a:pt x="119" y="251"/>
                  </a:lnTo>
                  <a:lnTo>
                    <a:pt x="256" y="78"/>
                  </a:lnTo>
                  <a:lnTo>
                    <a:pt x="19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620800" y="5513400"/>
              <a:ext cx="255600" cy="128520"/>
            </a:xfrm>
            <a:custGeom>
              <a:avLst/>
              <a:gdLst/>
              <a:ahLst/>
              <a:rect l="l" t="t" r="r" b="b"/>
              <a:pathLst>
                <a:path w="322" h="245">
                  <a:moveTo>
                    <a:pt x="322" y="61"/>
                  </a:moveTo>
                  <a:lnTo>
                    <a:pt x="129" y="61"/>
                  </a:lnTo>
                  <a:lnTo>
                    <a:pt x="129" y="0"/>
                  </a:lnTo>
                  <a:lnTo>
                    <a:pt x="0" y="122"/>
                  </a:lnTo>
                  <a:lnTo>
                    <a:pt x="129" y="245"/>
                  </a:lnTo>
                  <a:lnTo>
                    <a:pt x="129" y="173"/>
                  </a:lnTo>
                  <a:lnTo>
                    <a:pt x="322" y="173"/>
                  </a:lnTo>
                  <a:lnTo>
                    <a:pt x="322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608200" y="5535720"/>
              <a:ext cx="255600" cy="129960"/>
            </a:xfrm>
            <a:custGeom>
              <a:avLst/>
              <a:gdLst/>
              <a:ahLst/>
              <a:rect l="l" t="t" r="r" b="b"/>
              <a:pathLst>
                <a:path w="322" h="245">
                  <a:moveTo>
                    <a:pt x="322" y="61"/>
                  </a:moveTo>
                  <a:lnTo>
                    <a:pt x="129" y="61"/>
                  </a:lnTo>
                  <a:lnTo>
                    <a:pt x="129" y="0"/>
                  </a:lnTo>
                  <a:lnTo>
                    <a:pt x="0" y="123"/>
                  </a:lnTo>
                  <a:lnTo>
                    <a:pt x="129" y="245"/>
                  </a:lnTo>
                  <a:lnTo>
                    <a:pt x="129" y="174"/>
                  </a:lnTo>
                  <a:lnTo>
                    <a:pt x="322" y="174"/>
                  </a:lnTo>
                  <a:lnTo>
                    <a:pt x="322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492280" y="5823000"/>
              <a:ext cx="206280" cy="169920"/>
            </a:xfrm>
            <a:custGeom>
              <a:avLst/>
              <a:gdLst/>
              <a:ahLst/>
              <a:rect l="l" t="t" r="r" b="b"/>
              <a:pathLst>
                <a:path w="261" h="321">
                  <a:moveTo>
                    <a:pt x="261" y="243"/>
                  </a:moveTo>
                  <a:lnTo>
                    <a:pt x="126" y="70"/>
                  </a:lnTo>
                  <a:lnTo>
                    <a:pt x="159" y="28"/>
                  </a:lnTo>
                  <a:lnTo>
                    <a:pt x="0" y="0"/>
                  </a:lnTo>
                  <a:lnTo>
                    <a:pt x="23" y="198"/>
                  </a:lnTo>
                  <a:lnTo>
                    <a:pt x="62" y="149"/>
                  </a:lnTo>
                  <a:lnTo>
                    <a:pt x="199" y="321"/>
                  </a:lnTo>
                  <a:lnTo>
                    <a:pt x="261" y="24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77880" y="5845320"/>
              <a:ext cx="206640" cy="169560"/>
            </a:xfrm>
            <a:custGeom>
              <a:avLst/>
              <a:gdLst/>
              <a:ahLst/>
              <a:rect l="l" t="t" r="r" b="b"/>
              <a:pathLst>
                <a:path w="259" h="321">
                  <a:moveTo>
                    <a:pt x="259" y="242"/>
                  </a:moveTo>
                  <a:lnTo>
                    <a:pt x="124" y="71"/>
                  </a:lnTo>
                  <a:lnTo>
                    <a:pt x="158" y="28"/>
                  </a:lnTo>
                  <a:lnTo>
                    <a:pt x="0" y="0"/>
                  </a:lnTo>
                  <a:lnTo>
                    <a:pt x="23" y="199"/>
                  </a:lnTo>
                  <a:lnTo>
                    <a:pt x="62" y="150"/>
                  </a:lnTo>
                  <a:lnTo>
                    <a:pt x="197" y="321"/>
                  </a:lnTo>
                  <a:lnTo>
                    <a:pt x="259" y="24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1293480" y="4038480"/>
            <a:ext cx="1626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rmal In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731040" y="4038480"/>
            <a:ext cx="17679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wind if t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s no ther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3880" y="4572000"/>
            <a:ext cx="60984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133720" y="48006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-2880" y="4114800"/>
            <a:ext cx="1583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you 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ing here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05040" y="6019920"/>
            <a:ext cx="28422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wind + thermal inflow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wind that you fe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352680" y="5181480"/>
            <a:ext cx="304920" cy="304920"/>
          </a:xfrm>
          <a:prstGeom prst="plus">
            <a:avLst>
              <a:gd name="adj" fmla="val 375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562720" y="4876920"/>
            <a:ext cx="304560" cy="759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562720" y="5029200"/>
            <a:ext cx="304560" cy="763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175880" y="5334120"/>
            <a:ext cx="1623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The third vecto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833480" y="5448240"/>
            <a:ext cx="786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rm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3-11T21:38:46Z</dcterms:created>
  <dc:creator>Joe Wurts</dc:creator>
  <dc:description/>
  <cp:keywords/>
  <dc:language>en-US</dc:language>
  <cp:lastModifiedBy>Joe Wurts </cp:lastModifiedBy>
  <cp:lastPrinted>1996-03-15T20:32:24Z</cp:lastPrinted>
  <dcterms:modified xsi:type="dcterms:W3CDTF">2008-06-08T10:05:15Z</dcterms:modified>
  <cp:revision>16</cp:revision>
  <dc:subject>Lotsa thermal stuff</dc:subject>
  <dc:title>Finding and Recognizing Thermals</dc:title>
</cp:coreProperties>
</file>