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72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34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872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6360" y="16761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72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872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6360" y="38653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7734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72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3400" y="38653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6761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720" y="38653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5560" y="1371600"/>
            <a:ext cx="7645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0360" y="6486480"/>
            <a:ext cx="90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e Wu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93400" y="64864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E2E-06EB-49CF-A3AE-8A78EE2B4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696080" y="304920"/>
          <a:ext cx="106704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04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525276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ing RC sailplanes since 19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competition 1977 US Nationals, place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ilot to win world champion for both FAI recognized soaring discip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 world record holder for declared distance to a goal (141 miles, set in 198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“lifer” in the 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2249280" cy="254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324480" y="4038480"/>
          <a:ext cx="244800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4038480"/>
                    <a:ext cx="2448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8120" y="3962520"/>
            <a:ext cx="2438280" cy="11430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9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al vector math = Direction to th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340000">
            <a:off x="6061320" y="3483720"/>
            <a:ext cx="379440" cy="120600"/>
          </a:xfrm>
          <a:prstGeom prst="rightArrow">
            <a:avLst>
              <a:gd name="adj1" fmla="val 50000"/>
              <a:gd name="adj2" fmla="val 1573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13200" y="3527280"/>
            <a:ext cx="1031760" cy="131760"/>
          </a:xfrm>
          <a:prstGeom prst="rightArrow">
            <a:avLst>
              <a:gd name="adj1" fmla="val 50000"/>
              <a:gd name="adj2" fmla="val 3915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080000">
            <a:off x="1371240" y="3505320"/>
            <a:ext cx="1095480" cy="228600"/>
          </a:xfrm>
          <a:prstGeom prst="rightArrow">
            <a:avLst>
              <a:gd name="adj1" fmla="val 50000"/>
              <a:gd name="adj2" fmla="val 2396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160" y="320040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335268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2760" y="2971800"/>
            <a:ext cx="148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you f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3505320"/>
            <a:ext cx="30492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429000"/>
            <a:ext cx="3045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3581280"/>
            <a:ext cx="3045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438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math to derive the direction to the the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5321160"/>
            <a:ext cx="6172200" cy="128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wind speed and direction that you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basic 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 is the change caused by the the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340000">
            <a:off x="4351680" y="4605840"/>
            <a:ext cx="379440" cy="120600"/>
          </a:xfrm>
          <a:prstGeom prst="rightArrow">
            <a:avLst>
              <a:gd name="adj1" fmla="val 50000"/>
              <a:gd name="adj2" fmla="val 1573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73280" y="4365720"/>
            <a:ext cx="1032120" cy="131760"/>
          </a:xfrm>
          <a:prstGeom prst="rightArrow">
            <a:avLst>
              <a:gd name="adj1" fmla="val 50000"/>
              <a:gd name="adj2" fmla="val 39170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0000">
            <a:off x="3428640" y="4562640"/>
            <a:ext cx="1095480" cy="228600"/>
          </a:xfrm>
          <a:prstGeom prst="rightArrow">
            <a:avLst>
              <a:gd name="adj1" fmla="val 50000"/>
              <a:gd name="adj2" fmla="val 2396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69600" y="403848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4840" y="447516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0240" y="3657600"/>
            <a:ext cx="2334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is points to the therm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Guide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ply defined upwind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use downwind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ence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ed str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8160" y="1835280"/>
            <a:ext cx="1511280" cy="143496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327600 h 1434960"/>
              <a:gd name="textAreaBottom" fmla="*/ 1107360 h 1434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11840" y="1758960"/>
            <a:ext cx="234972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829800" y="4717440"/>
            <a:ext cx="2750400" cy="1195560"/>
            <a:chOff x="829800" y="4717440"/>
            <a:chExt cx="2750400" cy="1195560"/>
          </a:xfrm>
        </p:grpSpPr>
        <p:sp>
          <p:nvSpPr>
            <p:cNvPr id="170" name=""/>
            <p:cNvSpPr/>
            <p:nvPr/>
          </p:nvSpPr>
          <p:spPr>
            <a:xfrm rot="840000">
              <a:off x="1820520" y="4807080"/>
              <a:ext cx="768240" cy="215640"/>
            </a:xfrm>
            <a:prstGeom prst="rightArrow">
              <a:avLst>
                <a:gd name="adj1" fmla="val 50000"/>
                <a:gd name="adj2" fmla="val 17814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840000">
              <a:off x="2796840" y="4807080"/>
              <a:ext cx="768240" cy="215640"/>
            </a:xfrm>
            <a:prstGeom prst="rightArrow">
              <a:avLst>
                <a:gd name="adj1" fmla="val 50000"/>
                <a:gd name="adj2" fmla="val 17814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840000">
              <a:off x="844200" y="4807080"/>
              <a:ext cx="768240" cy="215640"/>
            </a:xfrm>
            <a:prstGeom prst="rightArrow">
              <a:avLst>
                <a:gd name="adj1" fmla="val 50000"/>
                <a:gd name="adj2" fmla="val 17814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0400000">
              <a:off x="2732040" y="5571720"/>
              <a:ext cx="768240" cy="216000"/>
            </a:xfrm>
            <a:prstGeom prst="rightArrow">
              <a:avLst>
                <a:gd name="adj1" fmla="val 50000"/>
                <a:gd name="adj2" fmla="val 17784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400000">
              <a:off x="1820880" y="5571720"/>
              <a:ext cx="768240" cy="216000"/>
            </a:xfrm>
            <a:prstGeom prst="rightArrow">
              <a:avLst>
                <a:gd name="adj1" fmla="val 50000"/>
                <a:gd name="adj2" fmla="val 17784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20400000">
              <a:off x="844560" y="5571720"/>
              <a:ext cx="768240" cy="216000"/>
            </a:xfrm>
            <a:prstGeom prst="rightArrow">
              <a:avLst>
                <a:gd name="adj1" fmla="val 50000"/>
                <a:gd name="adj2" fmla="val 17784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30280" y="5113440"/>
              <a:ext cx="247680" cy="291960"/>
            </a:xfrm>
            <a:custGeom>
              <a:avLst/>
              <a:gdLst>
                <a:gd name="textAreaLeft" fmla="*/ 56520 w 247680"/>
                <a:gd name="textAreaRight" fmla="*/ 191160 w 247680"/>
                <a:gd name="textAreaTop" fmla="*/ 66600 h 291960"/>
                <a:gd name="textAreaBottom" fmla="*/ 22536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76640" y="5113440"/>
              <a:ext cx="247320" cy="291960"/>
            </a:xfrm>
            <a:custGeom>
              <a:avLst/>
              <a:gdLst>
                <a:gd name="textAreaLeft" fmla="*/ 56520 w 247320"/>
                <a:gd name="textAreaRight" fmla="*/ 190800 w 247320"/>
                <a:gd name="textAreaTop" fmla="*/ 66600 h 291960"/>
                <a:gd name="textAreaBottom" fmla="*/ 22536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52960" y="5113440"/>
              <a:ext cx="247320" cy="291960"/>
            </a:xfrm>
            <a:custGeom>
              <a:avLst/>
              <a:gdLst>
                <a:gd name="textAreaLeft" fmla="*/ 56520 w 247320"/>
                <a:gd name="textAreaRight" fmla="*/ 190800 w 247320"/>
                <a:gd name="textAreaTop" fmla="*/ 66600 h 291960"/>
                <a:gd name="textAreaBottom" fmla="*/ 22536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78480" y="4641480"/>
            <a:ext cx="4101840" cy="927360"/>
            <a:chOff x="4578480" y="4641480"/>
            <a:chExt cx="4101840" cy="927360"/>
          </a:xfrm>
        </p:grpSpPr>
        <p:sp>
          <p:nvSpPr>
            <p:cNvPr id="180" name=""/>
            <p:cNvSpPr/>
            <p:nvPr/>
          </p:nvSpPr>
          <p:spPr>
            <a:xfrm>
              <a:off x="4578480" y="5264280"/>
              <a:ext cx="1163520" cy="230040"/>
            </a:xfrm>
            <a:prstGeom prst="rightArrow">
              <a:avLst>
                <a:gd name="adj1" fmla="val 50000"/>
                <a:gd name="adj2" fmla="val 2529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07040" y="5264280"/>
              <a:ext cx="222480" cy="230040"/>
            </a:xfrm>
            <a:custGeom>
              <a:avLst/>
              <a:gdLst>
                <a:gd name="textAreaLeft" fmla="*/ 50760 w 222480"/>
                <a:gd name="textAreaRight" fmla="*/ 171720 w 222480"/>
                <a:gd name="textAreaTop" fmla="*/ 52560 h 230040"/>
                <a:gd name="textAreaBottom" fmla="*/ 17748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18160" y="5141880"/>
              <a:ext cx="222480" cy="231840"/>
            </a:xfrm>
            <a:custGeom>
              <a:avLst/>
              <a:gdLst>
                <a:gd name="textAreaLeft" fmla="*/ 50760 w 222480"/>
                <a:gd name="textAreaRight" fmla="*/ 171720 w 222480"/>
                <a:gd name="textAreaTop" fmla="*/ 52920 h 231840"/>
                <a:gd name="textAreaBottom" fmla="*/ 178920 h 2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7000" y="5019840"/>
              <a:ext cx="223920" cy="231480"/>
            </a:xfrm>
            <a:custGeom>
              <a:avLst/>
              <a:gdLst>
                <a:gd name="textAreaLeft" fmla="*/ 51120 w 223920"/>
                <a:gd name="textAreaRight" fmla="*/ 172800 w 223920"/>
                <a:gd name="textAreaTop" fmla="*/ 52920 h 231480"/>
                <a:gd name="textAreaBottom" fmla="*/ 178560 h 23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75480" y="4898880"/>
              <a:ext cx="223920" cy="230400"/>
            </a:xfrm>
            <a:custGeom>
              <a:avLst/>
              <a:gdLst>
                <a:gd name="textAreaLeft" fmla="*/ 51120 w 223920"/>
                <a:gd name="textAreaRight" fmla="*/ 172800 w 223920"/>
                <a:gd name="textAreaTop" fmla="*/ 52560 h 230400"/>
                <a:gd name="textAreaBottom" fmla="*/ 177840 h 23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64440" y="4776840"/>
              <a:ext cx="222480" cy="230040"/>
            </a:xfrm>
            <a:custGeom>
              <a:avLst/>
              <a:gdLst>
                <a:gd name="textAreaLeft" fmla="*/ 50760 w 222480"/>
                <a:gd name="textAreaRight" fmla="*/ 171720 w 222480"/>
                <a:gd name="textAreaTop" fmla="*/ 52560 h 230040"/>
                <a:gd name="textAreaBottom" fmla="*/ 17748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048360" y="4641480"/>
              <a:ext cx="24559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107040" y="4946760"/>
              <a:ext cx="25732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09160" y="484812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pective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usion between range and al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ion angle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25440" y="518148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412880" y="4883040"/>
            <a:ext cx="165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8480" y="4883040"/>
            <a:ext cx="139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572000" y="471816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412880" y="4724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8480" y="4730760"/>
            <a:ext cx="1396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2160" y="4578480"/>
            <a:ext cx="139680" cy="6336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35877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3587760"/>
            <a:ext cx="0" cy="15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01960" y="3664080"/>
            <a:ext cx="520560" cy="152280"/>
            <a:chOff x="2901960" y="3664080"/>
            <a:chExt cx="520560" cy="152280"/>
          </a:xfrm>
        </p:grpSpPr>
        <p:sp>
          <p:nvSpPr>
            <p:cNvPr id="201" name=""/>
            <p:cNvSpPr/>
            <p:nvPr/>
          </p:nvSpPr>
          <p:spPr>
            <a:xfrm>
              <a:off x="2901960" y="3664080"/>
              <a:ext cx="254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68720" y="37591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022200" y="3714840"/>
              <a:ext cx="212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029040" y="37530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62440" y="3732120"/>
              <a:ext cx="126720" cy="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898800" y="3581280"/>
            <a:ext cx="520560" cy="152280"/>
            <a:chOff x="3898800" y="3581280"/>
            <a:chExt cx="520560" cy="152280"/>
          </a:xfrm>
        </p:grpSpPr>
        <p:sp>
          <p:nvSpPr>
            <p:cNvPr id="207" name=""/>
            <p:cNvSpPr/>
            <p:nvPr/>
          </p:nvSpPr>
          <p:spPr>
            <a:xfrm>
              <a:off x="3898800" y="3581280"/>
              <a:ext cx="254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65560" y="3676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019040" y="3632040"/>
              <a:ext cx="212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4025880" y="3669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59280" y="3649680"/>
              <a:ext cx="12672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H="1" flipV="1">
            <a:off x="3193920" y="3803760"/>
            <a:ext cx="130824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191120" y="3733920"/>
            <a:ext cx="311040" cy="84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340240" y="3505320"/>
            <a:ext cx="520920" cy="152280"/>
            <a:chOff x="5340240" y="3505320"/>
            <a:chExt cx="520920" cy="152280"/>
          </a:xfrm>
        </p:grpSpPr>
        <p:sp>
          <p:nvSpPr>
            <p:cNvPr id="215" name=""/>
            <p:cNvSpPr/>
            <p:nvPr/>
          </p:nvSpPr>
          <p:spPr>
            <a:xfrm>
              <a:off x="5340240" y="3505320"/>
              <a:ext cx="254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07000" y="3600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460480" y="3556080"/>
              <a:ext cx="212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5467320" y="359424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00720" y="3573720"/>
              <a:ext cx="127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407280" y="3359160"/>
            <a:ext cx="520560" cy="152280"/>
            <a:chOff x="6407280" y="3359160"/>
            <a:chExt cx="520560" cy="152280"/>
          </a:xfrm>
        </p:grpSpPr>
        <p:sp>
          <p:nvSpPr>
            <p:cNvPr id="221" name=""/>
            <p:cNvSpPr/>
            <p:nvPr/>
          </p:nvSpPr>
          <p:spPr>
            <a:xfrm>
              <a:off x="6407280" y="3359160"/>
              <a:ext cx="2538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73680" y="34545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527520" y="3409920"/>
              <a:ext cx="2127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34000" y="34480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67400" y="3427560"/>
              <a:ext cx="12708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4654440" y="3657600"/>
            <a:ext cx="831960" cy="9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4654440" y="3498480"/>
            <a:ext cx="196848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35114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587760"/>
            <a:ext cx="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7760" y="3054240"/>
            <a:ext cx="1511280" cy="216000"/>
          </a:xfrm>
          <a:prstGeom prst="rightArrow">
            <a:avLst>
              <a:gd name="adj1" fmla="val 50000"/>
              <a:gd name="adj2" fmla="val 34986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51400" y="295128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nts on Recen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ighter in the stronger 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ly reevaluate on each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wary of subconscious upwind dr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s of horizontal wind s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20880" y="3968640"/>
            <a:ext cx="3187440" cy="2806920"/>
            <a:chOff x="920880" y="3968640"/>
            <a:chExt cx="3187440" cy="2806920"/>
          </a:xfrm>
        </p:grpSpPr>
        <p:sp>
          <p:nvSpPr>
            <p:cNvPr id="235" name=""/>
            <p:cNvSpPr/>
            <p:nvPr/>
          </p:nvSpPr>
          <p:spPr>
            <a:xfrm>
              <a:off x="920880" y="3968640"/>
              <a:ext cx="2993760" cy="2524320"/>
            </a:xfrm>
            <a:custGeom>
              <a:avLst/>
              <a:gdLst>
                <a:gd name="textAreaLeft" fmla="*/ 683280 w 2993760"/>
                <a:gd name="textAreaRight" fmla="*/ 2310480 w 2993760"/>
                <a:gd name="textAreaTop" fmla="*/ 576000 h 2524320"/>
                <a:gd name="textAreaBottom" fmla="*/ 1948320 h 252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93880" y="4626000"/>
              <a:ext cx="1344600" cy="120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8760" y="4438800"/>
              <a:ext cx="2509560" cy="2336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93880" y="4532400"/>
              <a:ext cx="471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781280" y="4721400"/>
              <a:ext cx="303120" cy="2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7040" y="4908600"/>
              <a:ext cx="1810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797440" y="3733920"/>
            <a:ext cx="2882880" cy="3053880"/>
            <a:chOff x="5797440" y="3733920"/>
            <a:chExt cx="2882880" cy="3053880"/>
          </a:xfrm>
        </p:grpSpPr>
        <p:sp>
          <p:nvSpPr>
            <p:cNvPr id="242" name=""/>
            <p:cNvSpPr/>
            <p:nvPr/>
          </p:nvSpPr>
          <p:spPr>
            <a:xfrm flipV="1">
              <a:off x="5797440" y="4227120"/>
              <a:ext cx="1182960" cy="25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561440" y="4295520"/>
              <a:ext cx="1118880" cy="249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13600" y="4435560"/>
              <a:ext cx="1258920" cy="1879560"/>
            </a:xfrm>
            <a:custGeom>
              <a:avLst/>
              <a:gdLst/>
              <a:ahLst/>
              <a:rect l="l" t="t" r="r" b="b"/>
              <a:pathLst>
                <a:path w="793" h="1184">
                  <a:moveTo>
                    <a:pt x="0" y="0"/>
                  </a:moveTo>
                  <a:lnTo>
                    <a:pt x="594" y="42"/>
                  </a:lnTo>
                  <a:lnTo>
                    <a:pt x="792" y="211"/>
                  </a:lnTo>
                  <a:lnTo>
                    <a:pt x="554" y="380"/>
                  </a:lnTo>
                  <a:lnTo>
                    <a:pt x="158" y="423"/>
                  </a:lnTo>
                  <a:lnTo>
                    <a:pt x="0" y="338"/>
                  </a:lnTo>
                  <a:lnTo>
                    <a:pt x="317" y="338"/>
                  </a:lnTo>
                  <a:lnTo>
                    <a:pt x="634" y="423"/>
                  </a:lnTo>
                  <a:lnTo>
                    <a:pt x="752" y="549"/>
                  </a:lnTo>
                  <a:lnTo>
                    <a:pt x="594" y="676"/>
                  </a:lnTo>
                  <a:lnTo>
                    <a:pt x="277" y="718"/>
                  </a:lnTo>
                  <a:lnTo>
                    <a:pt x="40" y="634"/>
                  </a:lnTo>
                  <a:lnTo>
                    <a:pt x="356" y="634"/>
                  </a:lnTo>
                  <a:lnTo>
                    <a:pt x="713" y="718"/>
                  </a:lnTo>
                  <a:lnTo>
                    <a:pt x="792" y="803"/>
                  </a:lnTo>
                  <a:lnTo>
                    <a:pt x="515" y="930"/>
                  </a:lnTo>
                  <a:lnTo>
                    <a:pt x="277" y="930"/>
                  </a:lnTo>
                  <a:lnTo>
                    <a:pt x="119" y="887"/>
                  </a:lnTo>
                  <a:lnTo>
                    <a:pt x="79" y="845"/>
                  </a:lnTo>
                  <a:lnTo>
                    <a:pt x="277" y="845"/>
                  </a:lnTo>
                  <a:lnTo>
                    <a:pt x="634" y="930"/>
                  </a:lnTo>
                  <a:lnTo>
                    <a:pt x="752" y="1014"/>
                  </a:lnTo>
                  <a:lnTo>
                    <a:pt x="594" y="1141"/>
                  </a:lnTo>
                  <a:lnTo>
                    <a:pt x="317" y="1183"/>
                  </a:lnTo>
                  <a:lnTo>
                    <a:pt x="119" y="10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08720" y="4040280"/>
              <a:ext cx="1055880" cy="187200"/>
            </a:xfrm>
            <a:prstGeom prst="rightArrow">
              <a:avLst>
                <a:gd name="adj1" fmla="val 50000"/>
                <a:gd name="adj2" fmla="val 28204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25440" y="373392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5680" y="4343400"/>
            <a:ext cx="1524240" cy="1373400"/>
            <a:chOff x="4495680" y="4343400"/>
            <a:chExt cx="1524240" cy="1373400"/>
          </a:xfrm>
        </p:grpSpPr>
        <p:sp>
          <p:nvSpPr>
            <p:cNvPr id="248" name=""/>
            <p:cNvSpPr/>
            <p:nvPr/>
          </p:nvSpPr>
          <p:spPr>
            <a:xfrm>
              <a:off x="4724280" y="43434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4280" y="548640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4390920"/>
              <a:ext cx="478080" cy="1095480"/>
            </a:xfrm>
            <a:custGeom>
              <a:avLst/>
              <a:gdLst/>
              <a:ahLst/>
              <a:rect l="l" t="t" r="r" b="b"/>
              <a:pathLst>
                <a:path w="301" h="690">
                  <a:moveTo>
                    <a:pt x="0" y="690"/>
                  </a:moveTo>
                  <a:cubicBezTo>
                    <a:pt x="36" y="678"/>
                    <a:pt x="66" y="671"/>
                    <a:pt x="96" y="642"/>
                  </a:cubicBezTo>
                  <a:cubicBezTo>
                    <a:pt x="126" y="613"/>
                    <a:pt x="157" y="564"/>
                    <a:pt x="181" y="516"/>
                  </a:cubicBezTo>
                  <a:cubicBezTo>
                    <a:pt x="205" y="468"/>
                    <a:pt x="222" y="421"/>
                    <a:pt x="240" y="354"/>
                  </a:cubicBezTo>
                  <a:cubicBezTo>
                    <a:pt x="258" y="287"/>
                    <a:pt x="278" y="173"/>
                    <a:pt x="288" y="114"/>
                  </a:cubicBezTo>
                  <a:cubicBezTo>
                    <a:pt x="298" y="55"/>
                    <a:pt x="299" y="27"/>
                    <a:pt x="3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86560" y="547056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ind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4320360" y="47487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Conditions - Inver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938320" y="1905120"/>
            <a:ext cx="2236680" cy="1793880"/>
            <a:chOff x="2938320" y="1905120"/>
            <a:chExt cx="2236680" cy="1793880"/>
          </a:xfrm>
        </p:grpSpPr>
        <p:grpSp>
          <p:nvGrpSpPr>
            <p:cNvPr id="255" name=""/>
            <p:cNvGrpSpPr/>
            <p:nvPr/>
          </p:nvGrpSpPr>
          <p:grpSpPr>
            <a:xfrm>
              <a:off x="3252960" y="2325600"/>
              <a:ext cx="1523880" cy="1373400"/>
              <a:chOff x="3252960" y="2325600"/>
              <a:chExt cx="1523880" cy="1373400"/>
            </a:xfrm>
          </p:grpSpPr>
          <p:sp>
            <p:nvSpPr>
              <p:cNvPr id="256" name=""/>
              <p:cNvSpPr/>
              <p:nvPr/>
            </p:nvSpPr>
            <p:spPr>
              <a:xfrm>
                <a:off x="3481560" y="232560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81560" y="3468600"/>
                <a:ext cx="129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81560" y="2373480"/>
                <a:ext cx="477720" cy="1095120"/>
              </a:xfrm>
              <a:custGeom>
                <a:avLst/>
                <a:gdLst/>
                <a:ahLst/>
                <a:rect l="l" t="t" r="r" b="b"/>
                <a:pathLst>
                  <a:path w="301" h="690">
                    <a:moveTo>
                      <a:pt x="0" y="690"/>
                    </a:moveTo>
                    <a:cubicBezTo>
                      <a:pt x="19" y="686"/>
                      <a:pt x="76" y="687"/>
                      <a:pt x="112" y="664"/>
                    </a:cubicBezTo>
                    <a:cubicBezTo>
                      <a:pt x="148" y="641"/>
                      <a:pt x="188" y="601"/>
                      <a:pt x="214" y="552"/>
                    </a:cubicBezTo>
                    <a:cubicBezTo>
                      <a:pt x="240" y="503"/>
                      <a:pt x="253" y="441"/>
                      <a:pt x="266" y="368"/>
                    </a:cubicBezTo>
                    <a:cubicBezTo>
                      <a:pt x="279" y="295"/>
                      <a:pt x="286" y="175"/>
                      <a:pt x="292" y="114"/>
                    </a:cubicBezTo>
                    <a:cubicBezTo>
                      <a:pt x="298" y="53"/>
                      <a:pt x="299" y="24"/>
                      <a:pt x="301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43480" y="3452760"/>
                <a:ext cx="80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Wind Spe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200000">
                <a:off x="3077640" y="2730960"/>
                <a:ext cx="596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ltitu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2938320" y="1905120"/>
              <a:ext cx="22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ypical wind profile with altitu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331280" y="4038480"/>
            <a:ext cx="2167920" cy="1678320"/>
            <a:chOff x="1331280" y="4038480"/>
            <a:chExt cx="2167920" cy="1678320"/>
          </a:xfrm>
        </p:grpSpPr>
        <p:sp>
          <p:nvSpPr>
            <p:cNvPr id="263" name=""/>
            <p:cNvSpPr/>
            <p:nvPr/>
          </p:nvSpPr>
          <p:spPr>
            <a:xfrm>
              <a:off x="1782720" y="43434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82720" y="548640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2720" y="5029200"/>
              <a:ext cx="152640" cy="457200"/>
            </a:xfrm>
            <a:custGeom>
              <a:avLst/>
              <a:gdLst/>
              <a:ahLst/>
              <a:rect l="l" t="t" r="r" b="b"/>
              <a:pathLst>
                <a:path w="301" h="690">
                  <a:moveTo>
                    <a:pt x="0" y="690"/>
                  </a:moveTo>
                  <a:cubicBezTo>
                    <a:pt x="36" y="678"/>
                    <a:pt x="66" y="671"/>
                    <a:pt x="96" y="642"/>
                  </a:cubicBezTo>
                  <a:cubicBezTo>
                    <a:pt x="126" y="613"/>
                    <a:pt x="157" y="564"/>
                    <a:pt x="181" y="516"/>
                  </a:cubicBezTo>
                  <a:cubicBezTo>
                    <a:pt x="205" y="468"/>
                    <a:pt x="222" y="421"/>
                    <a:pt x="240" y="354"/>
                  </a:cubicBezTo>
                  <a:cubicBezTo>
                    <a:pt x="258" y="287"/>
                    <a:pt x="278" y="173"/>
                    <a:pt x="288" y="114"/>
                  </a:cubicBezTo>
                  <a:cubicBezTo>
                    <a:pt x="298" y="55"/>
                    <a:pt x="299" y="27"/>
                    <a:pt x="301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45000" y="5470560"/>
              <a:ext cx="80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ind Spe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378800" y="47487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35360" y="4343400"/>
              <a:ext cx="382320" cy="685800"/>
            </a:xfrm>
            <a:custGeom>
              <a:avLst/>
              <a:gdLst/>
              <a:ahLst/>
              <a:rect l="l" t="t" r="r" b="b"/>
              <a:pathLst>
                <a:path w="241" h="432">
                  <a:moveTo>
                    <a:pt x="0" y="432"/>
                  </a:moveTo>
                  <a:cubicBezTo>
                    <a:pt x="18" y="428"/>
                    <a:pt x="77" y="424"/>
                    <a:pt x="106" y="408"/>
                  </a:cubicBezTo>
                  <a:cubicBezTo>
                    <a:pt x="135" y="392"/>
                    <a:pt x="154" y="366"/>
                    <a:pt x="172" y="336"/>
                  </a:cubicBezTo>
                  <a:cubicBezTo>
                    <a:pt x="190" y="306"/>
                    <a:pt x="201" y="273"/>
                    <a:pt x="212" y="230"/>
                  </a:cubicBezTo>
                  <a:cubicBezTo>
                    <a:pt x="223" y="187"/>
                    <a:pt x="231" y="114"/>
                    <a:pt x="236" y="76"/>
                  </a:cubicBezTo>
                  <a:cubicBezTo>
                    <a:pt x="241" y="38"/>
                    <a:pt x="239" y="16"/>
                    <a:pt x="24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82720" y="5029200"/>
              <a:ext cx="1295640" cy="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71040" y="480060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ver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31280" y="4038480"/>
              <a:ext cx="216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nd profile low level in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548960" y="4038480"/>
            <a:ext cx="2605320" cy="1678320"/>
            <a:chOff x="4548960" y="4038480"/>
            <a:chExt cx="2605320" cy="1678320"/>
          </a:xfrm>
        </p:grpSpPr>
        <p:sp>
          <p:nvSpPr>
            <p:cNvPr id="273" name=""/>
            <p:cNvSpPr/>
            <p:nvPr/>
          </p:nvSpPr>
          <p:spPr>
            <a:xfrm>
              <a:off x="4997520" y="5029200"/>
              <a:ext cx="1295280" cy="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78400" y="4343400"/>
              <a:ext cx="273240" cy="1136520"/>
            </a:xfrm>
            <a:custGeom>
              <a:avLst/>
              <a:gdLst/>
              <a:ahLst/>
              <a:rect l="l" t="t" r="r" b="b"/>
              <a:pathLst>
                <a:path w="172" h="716">
                  <a:moveTo>
                    <a:pt x="68" y="716"/>
                  </a:moveTo>
                  <a:cubicBezTo>
                    <a:pt x="76" y="704"/>
                    <a:pt x="107" y="671"/>
                    <a:pt x="116" y="644"/>
                  </a:cubicBezTo>
                  <a:cubicBezTo>
                    <a:pt x="125" y="617"/>
                    <a:pt x="119" y="581"/>
                    <a:pt x="120" y="554"/>
                  </a:cubicBezTo>
                  <a:cubicBezTo>
                    <a:pt x="121" y="527"/>
                    <a:pt x="118" y="499"/>
                    <a:pt x="120" y="480"/>
                  </a:cubicBezTo>
                  <a:cubicBezTo>
                    <a:pt x="122" y="461"/>
                    <a:pt x="126" y="448"/>
                    <a:pt x="134" y="438"/>
                  </a:cubicBezTo>
                  <a:cubicBezTo>
                    <a:pt x="142" y="428"/>
                    <a:pt x="166" y="439"/>
                    <a:pt x="168" y="420"/>
                  </a:cubicBezTo>
                  <a:cubicBezTo>
                    <a:pt x="170" y="401"/>
                    <a:pt x="172" y="396"/>
                    <a:pt x="144" y="326"/>
                  </a:cubicBezTo>
                  <a:cubicBezTo>
                    <a:pt x="116" y="256"/>
                    <a:pt x="30" y="68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97520" y="43434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97520" y="5486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60160" y="5470560"/>
              <a:ext cx="83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593600" y="47487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t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9520" y="4800600"/>
              <a:ext cx="831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mperatu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ver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48960" y="4038480"/>
              <a:ext cx="260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mperature profile low level in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410080" y="4324320"/>
            <a:ext cx="501840" cy="11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ing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er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ain infl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883040" y="4502160"/>
            <a:ext cx="2959200" cy="1289160"/>
            <a:chOff x="4883040" y="4502160"/>
            <a:chExt cx="2959200" cy="1289160"/>
          </a:xfrm>
        </p:grpSpPr>
        <p:sp>
          <p:nvSpPr>
            <p:cNvPr id="285" name=""/>
            <p:cNvSpPr/>
            <p:nvPr/>
          </p:nvSpPr>
          <p:spPr>
            <a:xfrm>
              <a:off x="4883040" y="5791320"/>
              <a:ext cx="29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9120" y="5057640"/>
              <a:ext cx="284040" cy="481320"/>
            </a:xfrm>
            <a:prstGeom prst="triangle">
              <a:avLst>
                <a:gd name="adj" fmla="val 49995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88280" y="5551560"/>
              <a:ext cx="45720" cy="2332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83040" y="5303880"/>
              <a:ext cx="641520" cy="111240"/>
            </a:xfrm>
            <a:prstGeom prst="rightArrow">
              <a:avLst>
                <a:gd name="adj1" fmla="val 50000"/>
                <a:gd name="adj2" fmla="val 28837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04640" y="501804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91280" y="4502160"/>
              <a:ext cx="758880" cy="35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48480" y="4681440"/>
              <a:ext cx="438120" cy="679680"/>
            </a:xfrm>
            <a:custGeom>
              <a:avLst/>
              <a:gdLst/>
              <a:ahLst/>
              <a:rect l="l" t="t" r="r" b="b"/>
              <a:pathLst>
                <a:path w="276" h="428">
                  <a:moveTo>
                    <a:pt x="275" y="0"/>
                  </a:moveTo>
                  <a:lnTo>
                    <a:pt x="250" y="19"/>
                  </a:lnTo>
                  <a:lnTo>
                    <a:pt x="231" y="39"/>
                  </a:lnTo>
                  <a:lnTo>
                    <a:pt x="225" y="58"/>
                  </a:lnTo>
                  <a:lnTo>
                    <a:pt x="225" y="78"/>
                  </a:lnTo>
                  <a:lnTo>
                    <a:pt x="206" y="97"/>
                  </a:lnTo>
                  <a:lnTo>
                    <a:pt x="188" y="116"/>
                  </a:lnTo>
                  <a:lnTo>
                    <a:pt x="169" y="129"/>
                  </a:lnTo>
                  <a:lnTo>
                    <a:pt x="156" y="149"/>
                  </a:lnTo>
                  <a:lnTo>
                    <a:pt x="150" y="168"/>
                  </a:lnTo>
                  <a:lnTo>
                    <a:pt x="138" y="188"/>
                  </a:lnTo>
                  <a:lnTo>
                    <a:pt x="131" y="207"/>
                  </a:lnTo>
                  <a:lnTo>
                    <a:pt x="119" y="226"/>
                  </a:lnTo>
                  <a:lnTo>
                    <a:pt x="113" y="246"/>
                  </a:lnTo>
                  <a:lnTo>
                    <a:pt x="113" y="265"/>
                  </a:lnTo>
                  <a:lnTo>
                    <a:pt x="94" y="272"/>
                  </a:lnTo>
                  <a:lnTo>
                    <a:pt x="94" y="291"/>
                  </a:lnTo>
                  <a:lnTo>
                    <a:pt x="75" y="304"/>
                  </a:lnTo>
                  <a:lnTo>
                    <a:pt x="63" y="323"/>
                  </a:lnTo>
                  <a:lnTo>
                    <a:pt x="44" y="343"/>
                  </a:lnTo>
                  <a:lnTo>
                    <a:pt x="38" y="362"/>
                  </a:lnTo>
                  <a:lnTo>
                    <a:pt x="25" y="382"/>
                  </a:lnTo>
                  <a:lnTo>
                    <a:pt x="19" y="401"/>
                  </a:lnTo>
                  <a:lnTo>
                    <a:pt x="19" y="421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94520" y="4803840"/>
              <a:ext cx="704880" cy="711000"/>
            </a:xfrm>
            <a:custGeom>
              <a:avLst/>
              <a:gdLst/>
              <a:ahLst/>
              <a:rect l="l" t="t" r="r" b="b"/>
              <a:pathLst>
                <a:path w="444" h="448">
                  <a:moveTo>
                    <a:pt x="443" y="0"/>
                  </a:moveTo>
                  <a:lnTo>
                    <a:pt x="437" y="19"/>
                  </a:lnTo>
                  <a:lnTo>
                    <a:pt x="418" y="39"/>
                  </a:lnTo>
                  <a:lnTo>
                    <a:pt x="399" y="52"/>
                  </a:lnTo>
                  <a:lnTo>
                    <a:pt x="381" y="58"/>
                  </a:lnTo>
                  <a:lnTo>
                    <a:pt x="362" y="58"/>
                  </a:lnTo>
                  <a:lnTo>
                    <a:pt x="343" y="71"/>
                  </a:lnTo>
                  <a:lnTo>
                    <a:pt x="324" y="78"/>
                  </a:lnTo>
                  <a:lnTo>
                    <a:pt x="306" y="91"/>
                  </a:lnTo>
                  <a:lnTo>
                    <a:pt x="287" y="97"/>
                  </a:lnTo>
                  <a:lnTo>
                    <a:pt x="268" y="110"/>
                  </a:lnTo>
                  <a:lnTo>
                    <a:pt x="262" y="130"/>
                  </a:lnTo>
                  <a:lnTo>
                    <a:pt x="243" y="136"/>
                  </a:lnTo>
                  <a:lnTo>
                    <a:pt x="225" y="155"/>
                  </a:lnTo>
                  <a:lnTo>
                    <a:pt x="206" y="168"/>
                  </a:lnTo>
                  <a:lnTo>
                    <a:pt x="187" y="175"/>
                  </a:lnTo>
                  <a:lnTo>
                    <a:pt x="168" y="188"/>
                  </a:lnTo>
                  <a:lnTo>
                    <a:pt x="156" y="207"/>
                  </a:lnTo>
                  <a:lnTo>
                    <a:pt x="137" y="214"/>
                  </a:lnTo>
                  <a:lnTo>
                    <a:pt x="119" y="227"/>
                  </a:lnTo>
                  <a:lnTo>
                    <a:pt x="100" y="233"/>
                  </a:lnTo>
                  <a:lnTo>
                    <a:pt x="94" y="253"/>
                  </a:lnTo>
                  <a:lnTo>
                    <a:pt x="81" y="272"/>
                  </a:lnTo>
                  <a:lnTo>
                    <a:pt x="81" y="292"/>
                  </a:lnTo>
                  <a:lnTo>
                    <a:pt x="75" y="311"/>
                  </a:lnTo>
                  <a:lnTo>
                    <a:pt x="75" y="330"/>
                  </a:lnTo>
                  <a:lnTo>
                    <a:pt x="62" y="350"/>
                  </a:lnTo>
                  <a:lnTo>
                    <a:pt x="56" y="369"/>
                  </a:lnTo>
                  <a:lnTo>
                    <a:pt x="44" y="389"/>
                  </a:lnTo>
                  <a:lnTo>
                    <a:pt x="37" y="408"/>
                  </a:lnTo>
                  <a:lnTo>
                    <a:pt x="6" y="428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lik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ar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draul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so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Thermal L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035680" y="1752480"/>
            <a:ext cx="4033800" cy="1602000"/>
            <a:chOff x="5035680" y="1752480"/>
            <a:chExt cx="4033800" cy="1602000"/>
          </a:xfrm>
        </p:grpSpPr>
        <p:sp>
          <p:nvSpPr>
            <p:cNvPr id="296" name=""/>
            <p:cNvSpPr/>
            <p:nvPr/>
          </p:nvSpPr>
          <p:spPr>
            <a:xfrm>
              <a:off x="5035680" y="3352680"/>
              <a:ext cx="402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34120" y="2590920"/>
              <a:ext cx="1068120" cy="763560"/>
            </a:xfrm>
            <a:custGeom>
              <a:avLst/>
              <a:gdLst/>
              <a:ahLst/>
              <a:rect l="l" t="t" r="r" b="b"/>
              <a:pathLst>
                <a:path w="673" h="481">
                  <a:moveTo>
                    <a:pt x="0" y="480"/>
                  </a:moveTo>
                  <a:lnTo>
                    <a:pt x="144" y="144"/>
                  </a:lnTo>
                  <a:lnTo>
                    <a:pt x="336" y="0"/>
                  </a:lnTo>
                  <a:lnTo>
                    <a:pt x="528" y="144"/>
                  </a:lnTo>
                  <a:lnTo>
                    <a:pt x="672" y="4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2286000"/>
              <a:ext cx="3888000" cy="306360"/>
            </a:xfrm>
            <a:custGeom>
              <a:avLst/>
              <a:gdLst/>
              <a:ahLst/>
              <a:rect l="l" t="t" r="r" b="b"/>
              <a:pathLst>
                <a:path w="2449" h="193">
                  <a:moveTo>
                    <a:pt x="0" y="192"/>
                  </a:moveTo>
                  <a:lnTo>
                    <a:pt x="432" y="0"/>
                  </a:lnTo>
                  <a:lnTo>
                    <a:pt x="864" y="144"/>
                  </a:lnTo>
                  <a:lnTo>
                    <a:pt x="1248" y="192"/>
                  </a:lnTo>
                  <a:lnTo>
                    <a:pt x="1680" y="48"/>
                  </a:lnTo>
                  <a:lnTo>
                    <a:pt x="2112" y="192"/>
                  </a:lnTo>
                  <a:lnTo>
                    <a:pt x="2448" y="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1981080"/>
              <a:ext cx="3888000" cy="230400"/>
            </a:xfrm>
            <a:custGeom>
              <a:avLst/>
              <a:gdLst/>
              <a:ahLst/>
              <a:rect l="l" t="t" r="r" b="b"/>
              <a:pathLst>
                <a:path w="2449" h="145">
                  <a:moveTo>
                    <a:pt x="0" y="144"/>
                  </a:moveTo>
                  <a:lnTo>
                    <a:pt x="432" y="0"/>
                  </a:lnTo>
                  <a:lnTo>
                    <a:pt x="864" y="96"/>
                  </a:lnTo>
                  <a:lnTo>
                    <a:pt x="1248" y="144"/>
                  </a:lnTo>
                  <a:lnTo>
                    <a:pt x="1680" y="48"/>
                  </a:lnTo>
                  <a:lnTo>
                    <a:pt x="2112" y="144"/>
                  </a:lnTo>
                  <a:lnTo>
                    <a:pt x="2448" y="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81480" y="1752480"/>
              <a:ext cx="3888000" cy="154080"/>
            </a:xfrm>
            <a:custGeom>
              <a:avLst/>
              <a:gdLst/>
              <a:ahLst/>
              <a:rect l="l" t="t" r="r" b="b"/>
              <a:pathLst>
                <a:path w="2449" h="97">
                  <a:moveTo>
                    <a:pt x="0" y="96"/>
                  </a:moveTo>
                  <a:lnTo>
                    <a:pt x="432" y="0"/>
                  </a:lnTo>
                  <a:lnTo>
                    <a:pt x="864" y="48"/>
                  </a:lnTo>
                  <a:lnTo>
                    <a:pt x="1248" y="48"/>
                  </a:lnTo>
                  <a:lnTo>
                    <a:pt x="1680" y="0"/>
                  </a:lnTo>
                  <a:lnTo>
                    <a:pt x="2112" y="48"/>
                  </a:lnTo>
                  <a:lnTo>
                    <a:pt x="2448" y="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83240" y="2749680"/>
              <a:ext cx="444600" cy="444240"/>
            </a:xfrm>
            <a:custGeom>
              <a:avLst/>
              <a:gdLst>
                <a:gd name="textAreaLeft" fmla="*/ 101520 w 444600"/>
                <a:gd name="textAreaRight" fmla="*/ 343080 w 444600"/>
                <a:gd name="textAreaTop" fmla="*/ 101160 h 444240"/>
                <a:gd name="textAreaBottom" fmla="*/ 34308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izing Your Aircraft Set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W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14400" y="3189240"/>
          <a:ext cx="2589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89240"/>
                    <a:ext cx="2589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chanica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ight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iloso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ing the aircraft efficiency an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ing 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ting the most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ing the “cross-talk” in inp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coordinated flight without difficu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e of flying = more performance re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and Recognizing Ther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W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echanic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o 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 servos to get straight pushr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o linkage and th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ff and tight linkage without 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ing 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834440" y="4307040"/>
            <a:ext cx="3652200" cy="2070360"/>
            <a:chOff x="4834440" y="4307040"/>
            <a:chExt cx="3652200" cy="2070360"/>
          </a:xfrm>
        </p:grpSpPr>
        <p:sp>
          <p:nvSpPr>
            <p:cNvPr id="313" name=""/>
            <p:cNvSpPr/>
            <p:nvPr/>
          </p:nvSpPr>
          <p:spPr>
            <a:xfrm>
              <a:off x="4865760" y="4307040"/>
              <a:ext cx="906480" cy="303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25960" y="4386240"/>
              <a:ext cx="146160" cy="14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780000">
              <a:off x="4984920" y="4385880"/>
              <a:ext cx="187200" cy="387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520000">
              <a:off x="7859520" y="3917520"/>
              <a:ext cx="189000" cy="1059120"/>
            </a:xfrm>
            <a:prstGeom prst="triangle">
              <a:avLst>
                <a:gd name="adj" fmla="val 49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5220000">
              <a:off x="7552440" y="4408920"/>
              <a:ext cx="401760" cy="625680"/>
            </a:xfrm>
            <a:prstGeom prst="rtTriangl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59440" y="4735440"/>
              <a:ext cx="2436840" cy="7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02600" y="4344840"/>
              <a:ext cx="187200" cy="18756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939920" y="4457880"/>
              <a:ext cx="158760" cy="674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34440" y="5191200"/>
              <a:ext cx="32234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e servo arm angle forw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d control arm angle af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es progressive mechan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fferential - good for ailer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67760" y="4452840"/>
              <a:ext cx="228600" cy="762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ing - Roll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- Coordinated roll w/o separate ru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leron to Flap mi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roll efficiency (I use Flap = 40% 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vs Rudder coup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help in setup - slope on a light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speed vs high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e on aircraft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1.5:1 to 2.5:1 differ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ing - Pitch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mix is Elevator to Ca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er should be even across the 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ossible, use an inverse exponential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amber mix ini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ood start is full up mixes to 10°  ca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dependent on airfoil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e 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own throw than up for a symmetric pitch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ing - Yaw Ax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e 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dder mix typically needs “reverse differenti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“vertical”, the more “reverse different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efficient than a cross-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covered in “roll ax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8840000">
            <a:off x="6526800" y="4697640"/>
            <a:ext cx="96840" cy="1997280"/>
          </a:xfrm>
          <a:prstGeom prst="triangle">
            <a:avLst>
              <a:gd name="adj" fmla="val 4999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640000">
            <a:off x="8034120" y="4686480"/>
            <a:ext cx="95040" cy="1996920"/>
          </a:xfrm>
          <a:prstGeom prst="triangle">
            <a:avLst>
              <a:gd name="adj" fmla="val 4999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2760000">
            <a:off x="5769360" y="5763240"/>
            <a:ext cx="1617840" cy="14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8160000">
            <a:off x="7168680" y="5617800"/>
            <a:ext cx="1617840" cy="1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86640" y="4898880"/>
            <a:ext cx="1251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use four flight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u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mode has a different, ail&gt;rud mix, differential, camber and elevator preset, as well as control throw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 - Lau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ber pre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° to 30° camber preset (full sp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on airfoil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or pre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dependent on towhook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tral to slight amount of up is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leron to Rudder mix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s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 to 100% aileron differ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 - Ther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er presets or adju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use flight mode presets, with adjustable slide for fine t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er to (Ail to Rud) gain adju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amber should give more Ail to Rud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vator to Camber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is mix (many people do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leron to Rudder 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to a higher rate for slow sp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Aileron and Elevator thr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 - Sp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97544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x Camber settings (fallac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or to Cambe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bit more (higher loads cause “blow-back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f using reflex camber pre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leron to Rudde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y a reduction is warr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ight Modes - L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p to Elevato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non-linear after 45° f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p to Aileron (cro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use about 10° up aile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leron to Rudde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some to s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adjus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a bit more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0840" y="5908680"/>
            <a:ext cx="6035760" cy="825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of crow/ail&gt;rud/diff is slightly proverse yaw response with a roll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672240" y="3703680"/>
            <a:ext cx="1839600" cy="1400040"/>
            <a:chOff x="6672240" y="3703680"/>
            <a:chExt cx="1839600" cy="1400040"/>
          </a:xfrm>
        </p:grpSpPr>
        <p:sp>
          <p:nvSpPr>
            <p:cNvPr id="346" name=""/>
            <p:cNvSpPr/>
            <p:nvPr/>
          </p:nvSpPr>
          <p:spPr>
            <a:xfrm>
              <a:off x="6672240" y="3703680"/>
              <a:ext cx="0" cy="14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80160" y="5103720"/>
              <a:ext cx="183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680160" y="4268520"/>
              <a:ext cx="687240" cy="83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67400" y="3790800"/>
              <a:ext cx="1082520" cy="480960"/>
            </a:xfrm>
            <a:custGeom>
              <a:avLst/>
              <a:gdLst/>
              <a:ahLst/>
              <a:rect l="l" t="t" r="r" b="b"/>
              <a:pathLst>
                <a:path w="682" h="303">
                  <a:moveTo>
                    <a:pt x="0" y="302"/>
                  </a:moveTo>
                  <a:lnTo>
                    <a:pt x="118" y="185"/>
                  </a:lnTo>
                  <a:lnTo>
                    <a:pt x="275" y="95"/>
                  </a:lnTo>
                  <a:lnTo>
                    <a:pt x="397" y="50"/>
                  </a:lnTo>
                  <a:lnTo>
                    <a:pt x="502" y="27"/>
                  </a:lnTo>
                  <a:lnTo>
                    <a:pt x="568" y="14"/>
                  </a:lnTo>
                  <a:lnTo>
                    <a:pt x="602" y="5"/>
                  </a:lnTo>
                  <a:lnTo>
                    <a:pt x="642" y="5"/>
                  </a:lnTo>
                  <a:lnTo>
                    <a:pt x="68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933240" y="5095800"/>
            <a:ext cx="131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46000" y="3048120"/>
            <a:ext cx="2580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tch up is caus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wash on the elev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46960" y="5113440"/>
            <a:ext cx="38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94760" y="5103720"/>
            <a:ext cx="50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unch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W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Thermal 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ics of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unch Modelling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craft Set-Up for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Zo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ch/Line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ering on T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wind Laun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ts val="3197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 (Weave) T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unch Modelling Progra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line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ight tows only (no weav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n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6 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ect Rat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g Are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0 f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ing Line T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 l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unch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 Velo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ft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om 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 deg up from turna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ch Drum D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 in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568840" y="2749680"/>
            <a:ext cx="3548160" cy="2914560"/>
            <a:chOff x="5568840" y="2749680"/>
            <a:chExt cx="3548160" cy="2914560"/>
          </a:xfrm>
        </p:grpSpPr>
        <p:grpSp>
          <p:nvGrpSpPr>
            <p:cNvPr id="361" name=""/>
            <p:cNvGrpSpPr/>
            <p:nvPr/>
          </p:nvGrpSpPr>
          <p:grpSpPr>
            <a:xfrm>
              <a:off x="5951520" y="2944440"/>
              <a:ext cx="2997360" cy="2359440"/>
              <a:chOff x="5951520" y="2944440"/>
              <a:chExt cx="2997360" cy="2359440"/>
            </a:xfrm>
          </p:grpSpPr>
          <p:sp>
            <p:nvSpPr>
              <p:cNvPr id="362" name=""/>
              <p:cNvSpPr/>
              <p:nvPr/>
            </p:nvSpPr>
            <p:spPr>
              <a:xfrm>
                <a:off x="5951520" y="2944800"/>
                <a:ext cx="29973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948880" y="2944800"/>
                <a:ext cx="0" cy="2359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51520" y="5303880"/>
                <a:ext cx="29973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951520" y="2944440"/>
                <a:ext cx="0" cy="2359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951520" y="2944800"/>
              <a:ext cx="0" cy="235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23080" y="530388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23080" y="496872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23080" y="463068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23080" y="429408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23080" y="395604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23080" y="361944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23080" y="328284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23080" y="294480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51520" y="5303880"/>
              <a:ext cx="299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95152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55632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14996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75008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34228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8948880" y="528120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951520" y="2997360"/>
              <a:ext cx="2463840" cy="2306520"/>
              <a:chOff x="5951520" y="2997360"/>
              <a:chExt cx="2463840" cy="2306520"/>
            </a:xfrm>
          </p:grpSpPr>
          <p:sp>
            <p:nvSpPr>
              <p:cNvPr id="383" name=""/>
              <p:cNvSpPr/>
              <p:nvPr/>
            </p:nvSpPr>
            <p:spPr>
              <a:xfrm flipV="1">
                <a:off x="5951520" y="5267160"/>
                <a:ext cx="15840" cy="367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967360" y="5218200"/>
                <a:ext cx="28800" cy="5076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0" y="31"/>
                    </a:moveTo>
                    <a:lnTo>
                      <a:pt x="6" y="15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994360" y="5175000"/>
                <a:ext cx="17640" cy="428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012000" y="5135040"/>
                <a:ext cx="20520" cy="39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032520" y="5095800"/>
                <a:ext cx="7920" cy="39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40440" y="5043600"/>
                <a:ext cx="11160" cy="540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0" y="33"/>
                    </a:moveTo>
                    <a:lnTo>
                      <a:pt x="0" y="1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6049800" y="5011200"/>
                <a:ext cx="11160" cy="320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060960" y="4968360"/>
                <a:ext cx="0" cy="428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6060960" y="4927680"/>
                <a:ext cx="5040" cy="410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6066000" y="4889520"/>
                <a:ext cx="10800" cy="38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6076800" y="4849920"/>
                <a:ext cx="19080" cy="39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95880" y="4807080"/>
                <a:ext cx="28800" cy="44280"/>
              </a:xfrm>
              <a:custGeom>
                <a:avLst/>
                <a:gdLst/>
                <a:ahLst/>
                <a:rect l="l" t="t" r="r" b="b"/>
                <a:pathLst>
                  <a:path w="18" h="28">
                    <a:moveTo>
                      <a:pt x="0" y="27"/>
                    </a:moveTo>
                    <a:lnTo>
                      <a:pt x="6" y="1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6122880" y="4771800"/>
                <a:ext cx="17640" cy="3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6140520" y="4735440"/>
                <a:ext cx="17280" cy="367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157800" y="4694400"/>
                <a:ext cx="17640" cy="410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175440" y="4660560"/>
                <a:ext cx="15840" cy="334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6191280" y="4624200"/>
                <a:ext cx="20520" cy="36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6211800" y="4589280"/>
                <a:ext cx="7920" cy="3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6219720" y="4549320"/>
                <a:ext cx="20880" cy="39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6240600" y="4520880"/>
                <a:ext cx="17280" cy="284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57880" y="448452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3"/>
                    </a:moveTo>
                    <a:lnTo>
                      <a:pt x="6" y="1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6284880" y="4444920"/>
                <a:ext cx="17640" cy="39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302520" y="441468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9"/>
                    </a:moveTo>
                    <a:lnTo>
                      <a:pt x="6" y="9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329520" y="4389480"/>
                <a:ext cx="17280" cy="252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346800" y="435924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9"/>
                    </a:moveTo>
                    <a:lnTo>
                      <a:pt x="6" y="1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6373800" y="4323960"/>
                <a:ext cx="19080" cy="3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92880" y="4294080"/>
                <a:ext cx="28440" cy="316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9"/>
                    </a:moveTo>
                    <a:lnTo>
                      <a:pt x="6" y="10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6419880" y="4260960"/>
                <a:ext cx="14400" cy="331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6437160" y="4240080"/>
                <a:ext cx="30240" cy="208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462720" y="4205160"/>
                <a:ext cx="27000" cy="3672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0" y="22"/>
                    </a:move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6488280" y="4184280"/>
                <a:ext cx="20520" cy="205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508800" y="4152960"/>
                <a:ext cx="30240" cy="3312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20"/>
                    </a:moveTo>
                    <a:lnTo>
                      <a:pt x="5" y="8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534000" y="4127040"/>
                <a:ext cx="27000" cy="25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6561000" y="4103280"/>
                <a:ext cx="25560" cy="176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6586560" y="4078440"/>
                <a:ext cx="30240" cy="252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6616800" y="4053960"/>
                <a:ext cx="27000" cy="241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6643800" y="4032000"/>
                <a:ext cx="27000" cy="219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6670800" y="4005000"/>
                <a:ext cx="25200" cy="270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6696000" y="3979440"/>
                <a:ext cx="28800" cy="25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6724800" y="3956040"/>
                <a:ext cx="27000" cy="237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6751800" y="3943080"/>
                <a:ext cx="27000" cy="12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78800" y="3917880"/>
                <a:ext cx="36360" cy="2700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16"/>
                    </a:moveTo>
                    <a:lnTo>
                      <a:pt x="11" y="4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6813720" y="3898440"/>
                <a:ext cx="28440" cy="190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42160" y="3876840"/>
                <a:ext cx="28440" cy="2376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14"/>
                    </a:moveTo>
                    <a:lnTo>
                      <a:pt x="7" y="5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6869160" y="3862440"/>
                <a:ext cx="28440" cy="144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97600" y="38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2"/>
                    </a:moveTo>
                    <a:lnTo>
                      <a:pt x="9" y="5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6931080" y="3830400"/>
                <a:ext cx="27000" cy="12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6956280" y="3812760"/>
                <a:ext cx="30240" cy="176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86520" y="3794040"/>
                <a:ext cx="38160" cy="2088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0" y="12"/>
                    </a:moveTo>
                    <a:lnTo>
                      <a:pt x="12" y="7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7023240" y="3781080"/>
                <a:ext cx="25200" cy="12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7048440" y="3772080"/>
                <a:ext cx="27000" cy="9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75440" y="3757680"/>
                <a:ext cx="38160" cy="1584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0" y="9"/>
                    </a:moveTo>
                    <a:lnTo>
                      <a:pt x="12" y="5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7112160" y="3744720"/>
                <a:ext cx="27000" cy="126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7139160" y="3730680"/>
                <a:ext cx="26640" cy="1440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65800" y="3724200"/>
                <a:ext cx="36720" cy="7920"/>
              </a:xfrm>
              <a:custGeom>
                <a:avLst/>
                <a:gdLst/>
                <a:ahLst/>
                <a:rect l="l" t="t" r="r" b="b"/>
                <a:pathLst>
                  <a:path w="23" h="5">
                    <a:moveTo>
                      <a:pt x="0" y="4"/>
                    </a:moveTo>
                    <a:lnTo>
                      <a:pt x="10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7201080" y="3714840"/>
                <a:ext cx="28440" cy="9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229520" y="370188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8"/>
                    </a:moveTo>
                    <a:lnTo>
                      <a:pt x="10" y="4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7262640" y="3692520"/>
                <a:ext cx="27000" cy="9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89640" y="3684600"/>
                <a:ext cx="38160" cy="93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0" y="5"/>
                    </a:moveTo>
                    <a:lnTo>
                      <a:pt x="11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7326360" y="3675240"/>
                <a:ext cx="33120" cy="93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353360" y="3675240"/>
                <a:ext cx="2520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378560" y="3668760"/>
                <a:ext cx="42840" cy="7920"/>
              </a:xfrm>
              <a:custGeom>
                <a:avLst/>
                <a:gdLst/>
                <a:ahLst/>
                <a:rect l="l" t="t" r="r" b="b"/>
                <a:pathLst>
                  <a:path w="27" h="5">
                    <a:moveTo>
                      <a:pt x="0" y="4"/>
                    </a:moveTo>
                    <a:lnTo>
                      <a:pt x="15" y="4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7419960" y="3660840"/>
                <a:ext cx="27000" cy="7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446960" y="3660840"/>
                <a:ext cx="31680" cy="144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0"/>
                    </a:moveTo>
                    <a:lnTo>
                      <a:pt x="9" y="0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477200" y="365112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0" y="6"/>
                    </a:moveTo>
                    <a:lnTo>
                      <a:pt x="8" y="0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07440" y="3651120"/>
                <a:ext cx="37800" cy="1800"/>
              </a:xfrm>
              <a:custGeom>
                <a:avLst/>
                <a:gdLst/>
                <a:ahLst/>
                <a:rect l="l" t="t" r="r" b="b"/>
                <a:pathLst>
                  <a:path w="24" h="1">
                    <a:moveTo>
                      <a:pt x="0" y="0"/>
                    </a:moveTo>
                    <a:lnTo>
                      <a:pt x="11" y="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43800" y="36511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0"/>
                    </a:moveTo>
                    <a:lnTo>
                      <a:pt x="5" y="6"/>
                    </a:lnTo>
                    <a:lnTo>
                      <a:pt x="18" y="11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572240" y="3668760"/>
                <a:ext cx="46080" cy="349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0"/>
                    </a:moveTo>
                    <a:lnTo>
                      <a:pt x="10" y="10"/>
                    </a:lnTo>
                    <a:lnTo>
                      <a:pt x="28" y="21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16880" y="37018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24" h="31">
                    <a:moveTo>
                      <a:pt x="0" y="0"/>
                    </a:moveTo>
                    <a:lnTo>
                      <a:pt x="11" y="14"/>
                    </a:lnTo>
                    <a:lnTo>
                      <a:pt x="23" y="3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53240" y="3745080"/>
                <a:ext cx="34920" cy="60120"/>
              </a:xfrm>
              <a:custGeom>
                <a:avLst/>
                <a:gdLst/>
                <a:ahLst/>
                <a:rect l="l" t="t" r="r" b="b"/>
                <a:pathLst>
                  <a:path w="22" h="38">
                    <a:moveTo>
                      <a:pt x="0" y="0"/>
                    </a:moveTo>
                    <a:lnTo>
                      <a:pt x="11" y="21"/>
                    </a:lnTo>
                    <a:lnTo>
                      <a:pt x="21" y="37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86720" y="38037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11" y="11"/>
                    </a:lnTo>
                    <a:lnTo>
                      <a:pt x="17" y="17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713720" y="3830760"/>
                <a:ext cx="31680" cy="144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0"/>
                    </a:moveTo>
                    <a:lnTo>
                      <a:pt x="5" y="0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7743960" y="3822840"/>
                <a:ext cx="23760" cy="7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767720" y="38037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12"/>
                    </a:moveTo>
                    <a:lnTo>
                      <a:pt x="5" y="6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794720" y="3763800"/>
                <a:ext cx="30240" cy="4140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25"/>
                    </a:moveTo>
                    <a:lnTo>
                      <a:pt x="11" y="13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23160" y="3701880"/>
                <a:ext cx="22320" cy="63720"/>
              </a:xfrm>
              <a:custGeom>
                <a:avLst/>
                <a:gdLst/>
                <a:ahLst/>
                <a:rect l="l" t="t" r="r" b="b"/>
                <a:pathLst>
                  <a:path w="14" h="40">
                    <a:moveTo>
                      <a:pt x="0" y="39"/>
                    </a:moveTo>
                    <a:lnTo>
                      <a:pt x="6" y="19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7843680" y="3641400"/>
                <a:ext cx="25560" cy="601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69240" y="357984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24" h="40">
                    <a:moveTo>
                      <a:pt x="0" y="39"/>
                    </a:moveTo>
                    <a:lnTo>
                      <a:pt x="11" y="20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905600" y="3506760"/>
                <a:ext cx="24120" cy="74520"/>
              </a:xfrm>
              <a:custGeom>
                <a:avLst/>
                <a:gdLst/>
                <a:ahLst/>
                <a:rect l="l" t="t" r="r" b="b"/>
                <a:pathLst>
                  <a:path w="15" h="47">
                    <a:moveTo>
                      <a:pt x="0" y="46"/>
                    </a:moveTo>
                    <a:lnTo>
                      <a:pt x="6" y="22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7927920" y="3444840"/>
                <a:ext cx="39600" cy="61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7967520" y="3379320"/>
                <a:ext cx="34920" cy="65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02440" y="3308400"/>
                <a:ext cx="38160" cy="7308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45"/>
                    </a:moveTo>
                    <a:lnTo>
                      <a:pt x="10" y="19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8039160" y="3242880"/>
                <a:ext cx="46080" cy="651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8085240" y="3184200"/>
                <a:ext cx="33120" cy="5868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8118360" y="3129120"/>
                <a:ext cx="47880" cy="554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8166240" y="3079440"/>
                <a:ext cx="44280" cy="49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210520" y="3044880"/>
                <a:ext cx="49320" cy="36360"/>
              </a:xfrm>
              <a:custGeom>
                <a:avLst/>
                <a:gdLst/>
                <a:ahLst/>
                <a:rect l="l" t="t" r="r" b="b"/>
                <a:pathLst>
                  <a:path w="31" h="23">
                    <a:moveTo>
                      <a:pt x="0" y="22"/>
                    </a:moveTo>
                    <a:lnTo>
                      <a:pt x="16" y="8"/>
                    </a:lnTo>
                    <a:lnTo>
                      <a:pt x="30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8264520" y="3017880"/>
                <a:ext cx="44280" cy="223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8308800" y="3002040"/>
                <a:ext cx="44640" cy="1584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53440" y="2997360"/>
                <a:ext cx="47520" cy="6120"/>
              </a:xfrm>
              <a:custGeom>
                <a:avLst/>
                <a:gdLst/>
                <a:ahLst/>
                <a:rect l="l" t="t" r="r" b="b"/>
                <a:pathLst>
                  <a:path w="30" h="4">
                    <a:moveTo>
                      <a:pt x="0" y="3"/>
                    </a:moveTo>
                    <a:lnTo>
                      <a:pt x="19" y="0"/>
                    </a:lnTo>
                    <a:lnTo>
                      <a:pt x="29" y="0"/>
                    </a:lnTo>
                  </a:path>
                </a:pathLst>
              </a:custGeom>
              <a:noFill/>
              <a:ln cap="rnd"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399520" y="2997360"/>
                <a:ext cx="15840" cy="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5629320" y="2852640"/>
              <a:ext cx="336240" cy="2553120"/>
              <a:chOff x="5629320" y="2852640"/>
              <a:chExt cx="336240" cy="2553120"/>
            </a:xfrm>
          </p:grpSpPr>
          <p:sp>
            <p:nvSpPr>
              <p:cNvPr id="475" name=""/>
              <p:cNvSpPr/>
              <p:nvPr/>
            </p:nvSpPr>
            <p:spPr>
              <a:xfrm>
                <a:off x="5735520" y="52102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29320" y="4873680"/>
                <a:ext cx="2790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29320" y="4997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29680" y="453852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629680" y="420372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629680" y="38606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629680" y="352440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629680" y="318780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29680" y="28526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5832360" y="5340240"/>
              <a:ext cx="3246120" cy="324000"/>
              <a:chOff x="5832360" y="5340240"/>
              <a:chExt cx="3246120" cy="324000"/>
            </a:xfrm>
          </p:grpSpPr>
          <p:sp>
            <p:nvSpPr>
              <p:cNvPr id="485" name=""/>
              <p:cNvSpPr/>
              <p:nvPr/>
            </p:nvSpPr>
            <p:spPr>
              <a:xfrm>
                <a:off x="5832360" y="53402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8208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97428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57908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16804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750880" y="5340240"/>
                <a:ext cx="327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750160" y="54687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568840" y="2749680"/>
              <a:ext cx="3548160" cy="2876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78600" y="4307040"/>
              <a:ext cx="1015920" cy="214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07320" y="4292640"/>
              <a:ext cx="9846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ypical Laun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rcraft Set-Up for Lau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-span launch camber typically 20 to 25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vator pre-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fliers have too little up pre-set and/or towhook too far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ileron to Rudder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w hook position (very import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um needs just a little up pre-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, as hard as possible with as much tension a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eption - circle t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be more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895480" y="3664080"/>
          <a:ext cx="468792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64080"/>
                    <a:ext cx="468792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Zoom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om start point from 50° to 95°, measured from the turn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 early in the wind (30 ft/sec wind optimum is 60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200160" y="3720960"/>
          <a:ext cx="4518000" cy="28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3720960"/>
                    <a:ext cx="4518000" cy="28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"/>
          <p:cNvGraphicFramePr/>
          <p:nvPr/>
        </p:nvGraphicFramePr>
        <p:xfrm>
          <a:off x="4724280" y="3171960"/>
          <a:ext cx="4337280" cy="33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71960"/>
                    <a:ext cx="4337280" cy="33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eep to Z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better to be too shallow than too d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ullout is very expensive in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per = faster (and draggi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your pullout with 10 to 20 lbs t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with a slight “pop” of the ch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nearly vertical quickly (hard pull-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transition from high drag to low 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ch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correct drum size for the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“right” resistiv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Constan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losses in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y duty selen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, short cab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4838760" y="3809880"/>
          <a:ext cx="4282920" cy="27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8760" y="3809880"/>
                    <a:ext cx="428292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 Opti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873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minimum size that wil not br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um line for wind is different than no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that has some plasticity is good for “weaving” in the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bound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ines do not spring back quic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Lo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ggest is line drag in the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line size for the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pability on t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chute drag is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parachute and shroud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“double-hook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craft set-up can have a factor (Trim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ering on T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on tow is similar to flying very slowly (high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use a lot of rudder along with a little ail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re is little tension, the plane might need some down elev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048120" y="4746600"/>
          <a:ext cx="268596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746600"/>
                    <a:ext cx="268596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5698440" y="5386320"/>
            <a:ext cx="174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line 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ehind the C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Theory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definition: lighter than the surrounding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organized bl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wind Lau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um launch is from straight downwind of the turna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soon as is practical after the throw, turn the aircraft to get downwind of the turn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urn back up the tow to finish the lau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de benefit is that you can better gauge your zoom dive/pull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 (Weave) T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idea is to use the energy of the wind instead of the winch mo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 that stays off of the drum helps your launch h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sion is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eaving to build tension and gain alt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Theory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mate Influ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 mois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ps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 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Theory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s from warm air near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ifts with the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on to other ther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aspect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057640" y="3733920"/>
          <a:ext cx="321624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57640" y="3733920"/>
                    <a:ext cx="321624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ues to Finding Ther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ng thermal in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ow 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lulls,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 shi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confuse with thermal in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for the “third vect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706920" y="5076720"/>
            <a:ext cx="5070600" cy="1591200"/>
            <a:chOff x="3706920" y="5076720"/>
            <a:chExt cx="5070600" cy="1591200"/>
          </a:xfrm>
        </p:grpSpPr>
        <p:sp>
          <p:nvSpPr>
            <p:cNvPr id="64" name=""/>
            <p:cNvSpPr/>
            <p:nvPr/>
          </p:nvSpPr>
          <p:spPr>
            <a:xfrm rot="5340000">
              <a:off x="7654680" y="5670360"/>
              <a:ext cx="442800" cy="125280"/>
            </a:xfrm>
            <a:prstGeom prst="rightArrow">
              <a:avLst>
                <a:gd name="adj1" fmla="val 50000"/>
                <a:gd name="adj2" fmla="val 17674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35880" y="5416560"/>
              <a:ext cx="1201680" cy="139680"/>
            </a:xfrm>
            <a:prstGeom prst="rightArrow">
              <a:avLst>
                <a:gd name="adj1" fmla="val 50000"/>
                <a:gd name="adj2" fmla="val 43019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080000">
              <a:off x="6582960" y="5622480"/>
              <a:ext cx="1274760" cy="241560"/>
            </a:xfrm>
            <a:prstGeom prst="rightArrow">
              <a:avLst>
                <a:gd name="adj1" fmla="val 50000"/>
                <a:gd name="adj2" fmla="val 263884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67280" y="5867280"/>
              <a:ext cx="1449360" cy="306360"/>
            </a:xfrm>
            <a:custGeom>
              <a:avLst/>
              <a:gdLst/>
              <a:ahLst/>
              <a:rect l="l" t="t" r="r" b="b"/>
              <a:pathLst>
                <a:path w="913" h="193">
                  <a:moveTo>
                    <a:pt x="0" y="192"/>
                  </a:moveTo>
                  <a:lnTo>
                    <a:pt x="288" y="192"/>
                  </a:lnTo>
                  <a:lnTo>
                    <a:pt x="91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06920" y="5969160"/>
              <a:ext cx="1871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you fe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Wind + Inflow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37960" y="507672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86600" y="5533920"/>
              <a:ext cx="79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927400" y="1952640"/>
            <a:ext cx="2676600" cy="2689920"/>
            <a:chOff x="5927400" y="1952640"/>
            <a:chExt cx="2676600" cy="2689920"/>
          </a:xfrm>
        </p:grpSpPr>
        <p:sp>
          <p:nvSpPr>
            <p:cNvPr id="72" name=""/>
            <p:cNvSpPr/>
            <p:nvPr/>
          </p:nvSpPr>
          <p:spPr>
            <a:xfrm>
              <a:off x="7169040" y="2216160"/>
              <a:ext cx="1206720" cy="216000"/>
            </a:xfrm>
            <a:prstGeom prst="rightArrow">
              <a:avLst>
                <a:gd name="adj1" fmla="val 50000"/>
                <a:gd name="adj2" fmla="val 279359"/>
              </a:avLst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788160" y="2749680"/>
              <a:ext cx="1815840" cy="1892880"/>
              <a:chOff x="6788160" y="2749680"/>
              <a:chExt cx="1815840" cy="1892880"/>
            </a:xfrm>
          </p:grpSpPr>
          <p:sp>
            <p:nvSpPr>
              <p:cNvPr id="74" name=""/>
              <p:cNvSpPr/>
              <p:nvPr/>
            </p:nvSpPr>
            <p:spPr>
              <a:xfrm>
                <a:off x="6788160" y="381636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6140000">
                <a:off x="7473600" y="434916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8159040" y="381636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340000">
                <a:off x="7473600" y="320652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820000">
                <a:off x="6864120" y="334440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8960000">
                <a:off x="6940080" y="4211280"/>
                <a:ext cx="444600" cy="139680"/>
              </a:xfrm>
              <a:prstGeom prst="rightArrow">
                <a:avLst>
                  <a:gd name="adj1" fmla="val 50000"/>
                  <a:gd name="adj2" fmla="val 159164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2820000">
                <a:off x="7991280" y="4281480"/>
                <a:ext cx="447840" cy="168480"/>
              </a:xfrm>
              <a:prstGeom prst="rightArrow">
                <a:avLst>
                  <a:gd name="adj1" fmla="val 50000"/>
                  <a:gd name="adj2" fmla="val 132918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8160000">
                <a:off x="8007480" y="3344760"/>
                <a:ext cx="444240" cy="139680"/>
              </a:xfrm>
              <a:prstGeom prst="rightArrow">
                <a:avLst>
                  <a:gd name="adj1" fmla="val 50000"/>
                  <a:gd name="adj2" fmla="val 15903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97640" y="3587760"/>
                <a:ext cx="520920" cy="520560"/>
              </a:xfrm>
              <a:custGeom>
                <a:avLst/>
                <a:gdLst>
                  <a:gd name="textAreaLeft" fmla="*/ 118800 w 520920"/>
                  <a:gd name="textAreaRight" fmla="*/ 402120 w 520920"/>
                  <a:gd name="textAreaTop" fmla="*/ 118800 h 520560"/>
                  <a:gd name="textAreaBottom" fmla="*/ 401760 h 52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7626240" y="2889360"/>
                <a:ext cx="6372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02560" y="2901960"/>
                <a:ext cx="6336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7696080" y="28126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613280" y="2825640"/>
                <a:ext cx="8892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702560" y="2825640"/>
                <a:ext cx="63360" cy="6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26240" y="2749680"/>
                <a:ext cx="139680" cy="63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7071480" y="1952640"/>
              <a:ext cx="69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i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27400" y="2867040"/>
              <a:ext cx="162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rmal In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9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al vector math = Direction to th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rary changes in the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65440" y="2209680"/>
          <a:ext cx="53560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209680"/>
                    <a:ext cx="53560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5340000">
            <a:off x="7741440" y="5642280"/>
            <a:ext cx="379440" cy="120960"/>
          </a:xfrm>
          <a:prstGeom prst="rightArrow">
            <a:avLst>
              <a:gd name="adj1" fmla="val 50000"/>
              <a:gd name="adj2" fmla="val 15686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2680" y="5402160"/>
            <a:ext cx="1032120" cy="131760"/>
          </a:xfrm>
          <a:prstGeom prst="rightArrow">
            <a:avLst>
              <a:gd name="adj1" fmla="val 50000"/>
              <a:gd name="adj2" fmla="val 39170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">
            <a:off x="6818040" y="5599080"/>
            <a:ext cx="1095120" cy="228600"/>
          </a:xfrm>
          <a:prstGeom prst="rightArrow">
            <a:avLst>
              <a:gd name="adj1" fmla="val 50000"/>
              <a:gd name="adj2" fmla="val 23955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99200" y="5830920"/>
            <a:ext cx="1249200" cy="291960"/>
          </a:xfrm>
          <a:custGeom>
            <a:avLst/>
            <a:gdLst/>
            <a:ahLst/>
            <a:rect l="l" t="t" r="r" b="b"/>
            <a:pathLst>
              <a:path w="787" h="184">
                <a:moveTo>
                  <a:pt x="0" y="183"/>
                </a:moveTo>
                <a:lnTo>
                  <a:pt x="248" y="183"/>
                </a:lnTo>
                <a:lnTo>
                  <a:pt x="7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49680" y="5850000"/>
            <a:ext cx="1833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 + In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hat you f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65120" y="507528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0360" y="551196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17440" y="278136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3000" y="2670120"/>
            <a:ext cx="55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734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ird V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9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al vector math = Direction to th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65440" y="2209680"/>
          <a:ext cx="53560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2209680"/>
                    <a:ext cx="53560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rot="5340000">
            <a:off x="7409520" y="5148720"/>
            <a:ext cx="379080" cy="120600"/>
          </a:xfrm>
          <a:prstGeom prst="rightArrow">
            <a:avLst>
              <a:gd name="adj1" fmla="val 50000"/>
              <a:gd name="adj2" fmla="val 15717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31120" y="4908600"/>
            <a:ext cx="1031760" cy="131760"/>
          </a:xfrm>
          <a:prstGeom prst="rightArrow">
            <a:avLst>
              <a:gd name="adj1" fmla="val 50000"/>
              <a:gd name="adj2" fmla="val 3915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">
            <a:off x="6486120" y="5105520"/>
            <a:ext cx="1095480" cy="228600"/>
          </a:xfrm>
          <a:prstGeom prst="rightArrow">
            <a:avLst>
              <a:gd name="adj1" fmla="val 50000"/>
              <a:gd name="adj2" fmla="val 23962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5337000"/>
            <a:ext cx="1249200" cy="292320"/>
          </a:xfrm>
          <a:custGeom>
            <a:avLst/>
            <a:gdLst/>
            <a:ahLst/>
            <a:rect l="l" t="t" r="r" b="b"/>
            <a:pathLst>
              <a:path w="787" h="184">
                <a:moveTo>
                  <a:pt x="0" y="183"/>
                </a:moveTo>
                <a:lnTo>
                  <a:pt x="248" y="183"/>
                </a:lnTo>
                <a:lnTo>
                  <a:pt x="7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17040" y="5397480"/>
            <a:ext cx="1626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you fe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7080" y="4581360"/>
            <a:ext cx="69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72320" y="5018040"/>
            <a:ext cx="79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876920"/>
            <a:ext cx="1031760" cy="131760"/>
          </a:xfrm>
          <a:prstGeom prst="rightArrow">
            <a:avLst>
              <a:gd name="adj1" fmla="val 50000"/>
              <a:gd name="adj2" fmla="val 39156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00200" y="5029200"/>
            <a:ext cx="1276200" cy="1117440"/>
            <a:chOff x="1600200" y="5029200"/>
            <a:chExt cx="1276200" cy="1117440"/>
          </a:xfrm>
        </p:grpSpPr>
        <p:sp>
          <p:nvSpPr>
            <p:cNvPr id="117" name=""/>
            <p:cNvSpPr/>
            <p:nvPr/>
          </p:nvSpPr>
          <p:spPr>
            <a:xfrm>
              <a:off x="1896840" y="5288040"/>
              <a:ext cx="677880" cy="60948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70080" y="5908680"/>
              <a:ext cx="155520" cy="214200"/>
            </a:xfrm>
            <a:custGeom>
              <a:avLst/>
              <a:gdLst/>
              <a:ahLst/>
              <a:rect l="l" t="t" r="r" b="b"/>
              <a:pathLst>
                <a:path w="194" h="406">
                  <a:moveTo>
                    <a:pt x="146" y="406"/>
                  </a:moveTo>
                  <a:lnTo>
                    <a:pt x="146" y="162"/>
                  </a:lnTo>
                  <a:lnTo>
                    <a:pt x="194" y="162"/>
                  </a:lnTo>
                  <a:lnTo>
                    <a:pt x="97" y="0"/>
                  </a:lnTo>
                  <a:lnTo>
                    <a:pt x="0" y="162"/>
                  </a:lnTo>
                  <a:lnTo>
                    <a:pt x="57" y="162"/>
                  </a:lnTo>
                  <a:lnTo>
                    <a:pt x="57" y="406"/>
                  </a:lnTo>
                  <a:lnTo>
                    <a:pt x="146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57480" y="5931000"/>
              <a:ext cx="153720" cy="215640"/>
            </a:xfrm>
            <a:custGeom>
              <a:avLst/>
              <a:gdLst/>
              <a:ahLst/>
              <a:rect l="l" t="t" r="r" b="b"/>
              <a:pathLst>
                <a:path w="195" h="406">
                  <a:moveTo>
                    <a:pt x="146" y="406"/>
                  </a:moveTo>
                  <a:lnTo>
                    <a:pt x="146" y="162"/>
                  </a:lnTo>
                  <a:lnTo>
                    <a:pt x="195" y="162"/>
                  </a:lnTo>
                  <a:lnTo>
                    <a:pt x="97" y="0"/>
                  </a:lnTo>
                  <a:lnTo>
                    <a:pt x="0" y="162"/>
                  </a:lnTo>
                  <a:lnTo>
                    <a:pt x="57" y="162"/>
                  </a:lnTo>
                  <a:lnTo>
                    <a:pt x="57" y="406"/>
                  </a:lnTo>
                  <a:lnTo>
                    <a:pt x="146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68320" y="5818320"/>
              <a:ext cx="203400" cy="172800"/>
            </a:xfrm>
            <a:custGeom>
              <a:avLst/>
              <a:gdLst/>
              <a:ahLst/>
              <a:rect l="l" t="t" r="r" b="b"/>
              <a:pathLst>
                <a:path w="254" h="329">
                  <a:moveTo>
                    <a:pt x="62" y="329"/>
                  </a:moveTo>
                  <a:lnTo>
                    <a:pt x="199" y="156"/>
                  </a:lnTo>
                  <a:lnTo>
                    <a:pt x="232" y="199"/>
                  </a:lnTo>
                  <a:lnTo>
                    <a:pt x="254" y="0"/>
                  </a:lnTo>
                  <a:lnTo>
                    <a:pt x="96" y="28"/>
                  </a:lnTo>
                  <a:lnTo>
                    <a:pt x="135" y="78"/>
                  </a:lnTo>
                  <a:lnTo>
                    <a:pt x="0" y="250"/>
                  </a:lnTo>
                  <a:lnTo>
                    <a:pt x="62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55720" y="5840280"/>
              <a:ext cx="201600" cy="174600"/>
            </a:xfrm>
            <a:custGeom>
              <a:avLst/>
              <a:gdLst/>
              <a:ahLst/>
              <a:rect l="l" t="t" r="r" b="b"/>
              <a:pathLst>
                <a:path w="255" h="329">
                  <a:moveTo>
                    <a:pt x="62" y="329"/>
                  </a:moveTo>
                  <a:lnTo>
                    <a:pt x="198" y="156"/>
                  </a:lnTo>
                  <a:lnTo>
                    <a:pt x="232" y="199"/>
                  </a:lnTo>
                  <a:lnTo>
                    <a:pt x="255" y="0"/>
                  </a:lnTo>
                  <a:lnTo>
                    <a:pt x="97" y="28"/>
                  </a:lnTo>
                  <a:lnTo>
                    <a:pt x="136" y="78"/>
                  </a:lnTo>
                  <a:lnTo>
                    <a:pt x="0" y="249"/>
                  </a:lnTo>
                  <a:lnTo>
                    <a:pt x="62" y="3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12800" y="5513400"/>
              <a:ext cx="255600" cy="12852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0" y="184"/>
                  </a:moveTo>
                  <a:lnTo>
                    <a:pt x="194" y="184"/>
                  </a:lnTo>
                  <a:lnTo>
                    <a:pt x="194" y="245"/>
                  </a:lnTo>
                  <a:lnTo>
                    <a:pt x="322" y="122"/>
                  </a:lnTo>
                  <a:lnTo>
                    <a:pt x="194" y="0"/>
                  </a:lnTo>
                  <a:lnTo>
                    <a:pt x="194" y="72"/>
                  </a:lnTo>
                  <a:lnTo>
                    <a:pt x="0" y="72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00200" y="5535720"/>
              <a:ext cx="255600" cy="129960"/>
            </a:xfrm>
            <a:custGeom>
              <a:avLst/>
              <a:gdLst/>
              <a:ahLst/>
              <a:rect l="l" t="t" r="r" b="b"/>
              <a:pathLst>
                <a:path w="321" h="245">
                  <a:moveTo>
                    <a:pt x="0" y="184"/>
                  </a:moveTo>
                  <a:lnTo>
                    <a:pt x="192" y="184"/>
                  </a:lnTo>
                  <a:lnTo>
                    <a:pt x="192" y="245"/>
                  </a:lnTo>
                  <a:lnTo>
                    <a:pt x="321" y="123"/>
                  </a:lnTo>
                  <a:lnTo>
                    <a:pt x="192" y="0"/>
                  </a:lnTo>
                  <a:lnTo>
                    <a:pt x="192" y="72"/>
                  </a:lnTo>
                  <a:lnTo>
                    <a:pt x="0" y="72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63640" y="5173560"/>
              <a:ext cx="208080" cy="169920"/>
            </a:xfrm>
            <a:custGeom>
              <a:avLst/>
              <a:gdLst/>
              <a:ahLst/>
              <a:rect l="l" t="t" r="r" b="b"/>
              <a:pathLst>
                <a:path w="260" h="321">
                  <a:moveTo>
                    <a:pt x="0" y="78"/>
                  </a:moveTo>
                  <a:lnTo>
                    <a:pt x="135" y="249"/>
                  </a:lnTo>
                  <a:lnTo>
                    <a:pt x="102" y="292"/>
                  </a:lnTo>
                  <a:lnTo>
                    <a:pt x="260" y="321"/>
                  </a:lnTo>
                  <a:lnTo>
                    <a:pt x="238" y="121"/>
                  </a:lnTo>
                  <a:lnTo>
                    <a:pt x="198" y="171"/>
                  </a:lnTo>
                  <a:lnTo>
                    <a:pt x="62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51040" y="5195880"/>
              <a:ext cx="206280" cy="169920"/>
            </a:xfrm>
            <a:custGeom>
              <a:avLst/>
              <a:gdLst/>
              <a:ahLst/>
              <a:rect l="l" t="t" r="r" b="b"/>
              <a:pathLst>
                <a:path w="262" h="322">
                  <a:moveTo>
                    <a:pt x="0" y="79"/>
                  </a:moveTo>
                  <a:lnTo>
                    <a:pt x="137" y="251"/>
                  </a:lnTo>
                  <a:lnTo>
                    <a:pt x="102" y="293"/>
                  </a:lnTo>
                  <a:lnTo>
                    <a:pt x="262" y="322"/>
                  </a:lnTo>
                  <a:lnTo>
                    <a:pt x="239" y="123"/>
                  </a:lnTo>
                  <a:lnTo>
                    <a:pt x="199" y="173"/>
                  </a:lnTo>
                  <a:lnTo>
                    <a:pt x="63" y="0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70080" y="5029200"/>
              <a:ext cx="155520" cy="214200"/>
            </a:xfrm>
            <a:custGeom>
              <a:avLst/>
              <a:gdLst/>
              <a:ahLst/>
              <a:rect l="l" t="t" r="r" b="b"/>
              <a:pathLst>
                <a:path w="194" h="404">
                  <a:moveTo>
                    <a:pt x="48" y="0"/>
                  </a:moveTo>
                  <a:lnTo>
                    <a:pt x="48" y="243"/>
                  </a:lnTo>
                  <a:lnTo>
                    <a:pt x="0" y="243"/>
                  </a:lnTo>
                  <a:lnTo>
                    <a:pt x="97" y="404"/>
                  </a:lnTo>
                  <a:lnTo>
                    <a:pt x="194" y="243"/>
                  </a:lnTo>
                  <a:lnTo>
                    <a:pt x="137" y="243"/>
                  </a:lnTo>
                  <a:lnTo>
                    <a:pt x="137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57480" y="5051520"/>
              <a:ext cx="153720" cy="214200"/>
            </a:xfrm>
            <a:custGeom>
              <a:avLst/>
              <a:gdLst/>
              <a:ahLst/>
              <a:rect l="l" t="t" r="r" b="b"/>
              <a:pathLst>
                <a:path w="195" h="405">
                  <a:moveTo>
                    <a:pt x="49" y="0"/>
                  </a:moveTo>
                  <a:lnTo>
                    <a:pt x="49" y="243"/>
                  </a:lnTo>
                  <a:lnTo>
                    <a:pt x="0" y="243"/>
                  </a:lnTo>
                  <a:lnTo>
                    <a:pt x="97" y="405"/>
                  </a:lnTo>
                  <a:lnTo>
                    <a:pt x="195" y="243"/>
                  </a:lnTo>
                  <a:lnTo>
                    <a:pt x="138" y="243"/>
                  </a:lnTo>
                  <a:lnTo>
                    <a:pt x="138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38360" y="5160960"/>
              <a:ext cx="203040" cy="173160"/>
            </a:xfrm>
            <a:custGeom>
              <a:avLst/>
              <a:gdLst/>
              <a:ahLst/>
              <a:rect l="l" t="t" r="r" b="b"/>
              <a:pathLst>
                <a:path w="257" h="329">
                  <a:moveTo>
                    <a:pt x="195" y="0"/>
                  </a:moveTo>
                  <a:lnTo>
                    <a:pt x="57" y="172"/>
                  </a:lnTo>
                  <a:lnTo>
                    <a:pt x="23" y="129"/>
                  </a:lnTo>
                  <a:lnTo>
                    <a:pt x="0" y="329"/>
                  </a:lnTo>
                  <a:lnTo>
                    <a:pt x="160" y="300"/>
                  </a:lnTo>
                  <a:lnTo>
                    <a:pt x="120" y="251"/>
                  </a:lnTo>
                  <a:lnTo>
                    <a:pt x="257" y="79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23960" y="5183280"/>
              <a:ext cx="204840" cy="174600"/>
            </a:xfrm>
            <a:custGeom>
              <a:avLst/>
              <a:gdLst/>
              <a:ahLst/>
              <a:rect l="l" t="t" r="r" b="b"/>
              <a:pathLst>
                <a:path w="256" h="329">
                  <a:moveTo>
                    <a:pt x="193" y="0"/>
                  </a:moveTo>
                  <a:lnTo>
                    <a:pt x="57" y="172"/>
                  </a:lnTo>
                  <a:lnTo>
                    <a:pt x="22" y="129"/>
                  </a:lnTo>
                  <a:lnTo>
                    <a:pt x="0" y="329"/>
                  </a:lnTo>
                  <a:lnTo>
                    <a:pt x="159" y="300"/>
                  </a:lnTo>
                  <a:lnTo>
                    <a:pt x="119" y="251"/>
                  </a:lnTo>
                  <a:lnTo>
                    <a:pt x="256" y="78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0800" y="5513400"/>
              <a:ext cx="255600" cy="12852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322" y="61"/>
                  </a:moveTo>
                  <a:lnTo>
                    <a:pt x="129" y="61"/>
                  </a:lnTo>
                  <a:lnTo>
                    <a:pt x="129" y="0"/>
                  </a:lnTo>
                  <a:lnTo>
                    <a:pt x="0" y="122"/>
                  </a:lnTo>
                  <a:lnTo>
                    <a:pt x="129" y="245"/>
                  </a:lnTo>
                  <a:lnTo>
                    <a:pt x="129" y="173"/>
                  </a:lnTo>
                  <a:lnTo>
                    <a:pt x="322" y="173"/>
                  </a:lnTo>
                  <a:lnTo>
                    <a:pt x="3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8200" y="5535720"/>
              <a:ext cx="255600" cy="129960"/>
            </a:xfrm>
            <a:custGeom>
              <a:avLst/>
              <a:gdLst/>
              <a:ahLst/>
              <a:rect l="l" t="t" r="r" b="b"/>
              <a:pathLst>
                <a:path w="322" h="245">
                  <a:moveTo>
                    <a:pt x="322" y="61"/>
                  </a:moveTo>
                  <a:lnTo>
                    <a:pt x="129" y="61"/>
                  </a:lnTo>
                  <a:lnTo>
                    <a:pt x="129" y="0"/>
                  </a:lnTo>
                  <a:lnTo>
                    <a:pt x="0" y="123"/>
                  </a:lnTo>
                  <a:lnTo>
                    <a:pt x="129" y="245"/>
                  </a:lnTo>
                  <a:lnTo>
                    <a:pt x="129" y="174"/>
                  </a:lnTo>
                  <a:lnTo>
                    <a:pt x="322" y="174"/>
                  </a:lnTo>
                  <a:lnTo>
                    <a:pt x="322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92280" y="5823000"/>
              <a:ext cx="206280" cy="169920"/>
            </a:xfrm>
            <a:custGeom>
              <a:avLst/>
              <a:gdLst/>
              <a:ahLst/>
              <a:rect l="l" t="t" r="r" b="b"/>
              <a:pathLst>
                <a:path w="261" h="321">
                  <a:moveTo>
                    <a:pt x="261" y="243"/>
                  </a:moveTo>
                  <a:lnTo>
                    <a:pt x="126" y="70"/>
                  </a:lnTo>
                  <a:lnTo>
                    <a:pt x="159" y="28"/>
                  </a:lnTo>
                  <a:lnTo>
                    <a:pt x="0" y="0"/>
                  </a:lnTo>
                  <a:lnTo>
                    <a:pt x="23" y="198"/>
                  </a:lnTo>
                  <a:lnTo>
                    <a:pt x="62" y="149"/>
                  </a:lnTo>
                  <a:lnTo>
                    <a:pt x="199" y="321"/>
                  </a:lnTo>
                  <a:lnTo>
                    <a:pt x="261" y="24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77880" y="5845320"/>
              <a:ext cx="206640" cy="169560"/>
            </a:xfrm>
            <a:custGeom>
              <a:avLst/>
              <a:gdLst/>
              <a:ahLst/>
              <a:rect l="l" t="t" r="r" b="b"/>
              <a:pathLst>
                <a:path w="259" h="321">
                  <a:moveTo>
                    <a:pt x="259" y="242"/>
                  </a:moveTo>
                  <a:lnTo>
                    <a:pt x="124" y="71"/>
                  </a:lnTo>
                  <a:lnTo>
                    <a:pt x="158" y="28"/>
                  </a:lnTo>
                  <a:lnTo>
                    <a:pt x="0" y="0"/>
                  </a:lnTo>
                  <a:lnTo>
                    <a:pt x="23" y="199"/>
                  </a:lnTo>
                  <a:lnTo>
                    <a:pt x="62" y="150"/>
                  </a:lnTo>
                  <a:lnTo>
                    <a:pt x="197" y="321"/>
                  </a:lnTo>
                  <a:lnTo>
                    <a:pt x="259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293480" y="4038480"/>
            <a:ext cx="162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mal In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1040" y="4038480"/>
            <a:ext cx="1767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ind if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 no the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45720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800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2880" y="4114800"/>
            <a:ext cx="1583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ing here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05040" y="6019920"/>
            <a:ext cx="284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ind + thermal inflow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ind that you f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5181480"/>
            <a:ext cx="304920" cy="304920"/>
          </a:xfrm>
          <a:prstGeom prst="plus">
            <a:avLst>
              <a:gd name="adj" fmla="val 375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876920"/>
            <a:ext cx="30456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5029200"/>
            <a:ext cx="304560" cy="76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75880" y="5334120"/>
            <a:ext cx="1623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e third vec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3480" y="5448240"/>
            <a:ext cx="786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1T21:38:46Z</dcterms:created>
  <dc:creator>Joe Wurts</dc:creator>
  <dc:description/>
  <cp:keywords/>
  <dc:language>en-US</dc:language>
  <cp:lastModifiedBy>Joe Wurts </cp:lastModifiedBy>
  <cp:lastPrinted>1996-03-15T20:32:24Z</cp:lastPrinted>
  <dcterms:modified xsi:type="dcterms:W3CDTF">2008-06-08T10:05:15Z</dcterms:modified>
  <cp:revision>16</cp:revision>
  <dc:subject>Lotsa thermal stuff</dc:subject>
  <dc:title>Finding and Recognizing Thermals</dc:title>
</cp:coreProperties>
</file>